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86A73-557B-458B-A285-1585B9C6C8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A5987-8AD7-4531-9D27-1CA6625251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767DF-97A0-4891-B937-D768CA340B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97EB7-C9C9-4118-AEAE-1D5C247E52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04050-EF3C-455A-AA7B-EA64674ADA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E3777-F4F9-45A9-AA0E-2020310F22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848BE-3432-40C2-B55F-05C426AF05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BFA70-8ED4-4208-A0E3-6C354CF548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0CB73-C3EB-421A-987A-D3B6E35442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CCD68-CF61-490D-99DA-7DACEB8A4C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52C72-AF35-4CA8-A8E6-C1B13160FF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A9EF0-66F9-4C0E-925E-3C3B0493D5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000640" y="6476760"/>
            <a:ext cx="6858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EB4F2-322B-452B-AF93-7A25CF753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>
            <a:hlinkClick r:id="" action="ppaction://hlinkshowjump?jump=nextslide"/>
          </p:cNvPr>
          <p:cNvSpPr/>
          <p:nvPr/>
        </p:nvSpPr>
        <p:spPr>
          <a:xfrm>
            <a:off x="8458200" y="6400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7848720" y="64008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690480"/>
            <a:ext cx="8229600" cy="563400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3520" y="990720"/>
            <a:ext cx="2857320" cy="289548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3581280" y="968400"/>
            <a:ext cx="4800600" cy="2594160"/>
          </a:xfrm>
          <a:prstGeom prst="rect">
            <a:avLst/>
          </a:prstGeom>
          <a:solidFill>
            <a:srgbClr val="d6ecee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rmine whether you have mastered the learning objectives for this ammunition support lesso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the best answer to the following questions or enter your answer in the space provi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 your answers by clicking on the next page arrow symbol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9880" y="4495680"/>
            <a:ext cx="4876920" cy="146556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TE:  BEFORE YOU BEGIN, YOU MUST CLICK ON  THE POWERPOINT SLIDE SHOW SYMBOL AT THE BOTTOM LEFT CORNER OF YOUR COMPUTER SCREE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8458200" y="4876920"/>
            <a:ext cx="457200" cy="457200"/>
            <a:chOff x="8458200" y="4876920"/>
            <a:chExt cx="457200" cy="457200"/>
          </a:xfrm>
        </p:grpSpPr>
        <p:grpSp>
          <p:nvGrpSpPr>
            <p:cNvPr id="47" name=""/>
            <p:cNvGrpSpPr/>
            <p:nvPr/>
          </p:nvGrpSpPr>
          <p:grpSpPr>
            <a:xfrm>
              <a:off x="8458200" y="4876920"/>
              <a:ext cx="457200" cy="457200"/>
              <a:chOff x="8458200" y="4876920"/>
              <a:chExt cx="457200" cy="457200"/>
            </a:xfrm>
          </p:grpSpPr>
          <p:sp>
            <p:nvSpPr>
              <p:cNvPr id="48" name=""/>
              <p:cNvSpPr/>
              <p:nvPr/>
            </p:nvSpPr>
            <p:spPr>
              <a:xfrm>
                <a:off x="8686800" y="51814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534520" y="5334120"/>
                <a:ext cx="3049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458200" y="4876920"/>
                <a:ext cx="457200" cy="304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8458200" y="4876920"/>
              <a:ext cx="4572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537400" y="4987800"/>
              <a:ext cx="266760" cy="55800"/>
            </a:xfrm>
            <a:custGeom>
              <a:avLst/>
              <a:gdLst/>
              <a:ahLst/>
              <a:rect l="l" t="t" r="r" b="b"/>
              <a:pathLst>
                <a:path w="168" h="35">
                  <a:moveTo>
                    <a:pt x="8" y="33"/>
                  </a:moveTo>
                  <a:cubicBezTo>
                    <a:pt x="60" y="0"/>
                    <a:pt x="0" y="29"/>
                    <a:pt x="51" y="33"/>
                  </a:cubicBezTo>
                  <a:cubicBezTo>
                    <a:pt x="71" y="35"/>
                    <a:pt x="90" y="28"/>
                    <a:pt x="110" y="26"/>
                  </a:cubicBezTo>
                  <a:cubicBezTo>
                    <a:pt x="135" y="18"/>
                    <a:pt x="145" y="21"/>
                    <a:pt x="168" y="3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>
            <a:hlinkClick r:id="" action="ppaction://hlinkshowjump?jump=nextslide"/>
          </p:cNvPr>
          <p:cNvSpPr/>
          <p:nvPr/>
        </p:nvSpPr>
        <p:spPr>
          <a:xfrm>
            <a:off x="8458200" y="6400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04920" y="91440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Which of the following fuel support actions would you as the SPO plan to implement in support of offensive operations/defensive operations?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62120" y="617220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O D    Slides # 28, 29, 32, 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09480" y="160020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 for a high expenditure of small arms ammun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09480" y="22860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up mobile distribution points as low as company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09480" y="297180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tain separation distances between munitions and living areas (military and civilia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09480" y="39625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mines and demolitions for engine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09480" y="457200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ct decreased consumption in certain large-caliber and area type muni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09480" y="553068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w units to stock Class V in excess of their basic lo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5410080" y="1600200"/>
          <a:ext cx="3276720" cy="4648320"/>
        </p:xfrm>
        <a:graphic>
          <a:graphicData uri="http://schemas.openxmlformats.org/drawingml/2006/table">
            <a:tbl>
              <a:tblPr/>
              <a:tblGrid>
                <a:gridCol w="1143000"/>
                <a:gridCol w="1067040"/>
                <a:gridCol w="1066680"/>
              </a:tblGrid>
              <a:tr h="79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ban Warf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70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ban Warf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ban Warf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71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ban Warf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0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ban Warf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7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ban Warf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5105520" cy="3809880"/>
          </a:xfrm>
          <a:prstGeom prst="rect">
            <a:avLst/>
          </a:prstGeom>
          <a:solidFill>
            <a:srgbClr val="d3ebed"/>
          </a:solidFill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ANY SLIDES TO ENSURE THAT YOU UNDERSTAN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ssion, capabilities, and employment of ammunition and EOD support organiz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ribution flow and overall concept of ammunition support ope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derations for planning ammunition support and the interface of ammunition support operations mana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ribution methods available for Class V sup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57200" y="380880"/>
            <a:ext cx="8534520" cy="78552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HAVE SUCCESSFULLY COMPLE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 CHECKS ON LEARNING FOR THE AMMUNITION SUPPORT LESS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781680" y="63388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>
            <a:hlinkClick r:id="" action="ppaction://hlinkshowjump?jump=endshow"/>
          </p:cNvPr>
          <p:cNvSpPr/>
          <p:nvPr/>
        </p:nvSpPr>
        <p:spPr>
          <a:xfrm>
            <a:off x="8153280" y="624852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21496" y="10800"/>
                </a:moveTo>
                <a:lnTo>
                  <a:pt x="10991" y="17806"/>
                </a:lnTo>
                <a:lnTo>
                  <a:pt x="10991" y="3794"/>
                </a:lnTo>
                <a:close/>
              </a:path>
              <a:path fill="darken" w="35994" h="21600">
                <a:moveTo>
                  <a:pt x="23341" y="3794"/>
                </a:moveTo>
                <a:lnTo>
                  <a:pt x="23341" y="17806"/>
                </a:lnTo>
                <a:lnTo>
                  <a:pt x="25004" y="17806"/>
                </a:lnTo>
                <a:lnTo>
                  <a:pt x="25004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57200" y="5299200"/>
            <a:ext cx="5029200" cy="587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W CONTINUE ON TO THE NEXT LESSON OF YOUR SUPPORT OPERTIONS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5819760" y="1447920"/>
            <a:ext cx="3019320" cy="4647960"/>
            <a:chOff x="5819760" y="1447920"/>
            <a:chExt cx="3019320" cy="4647960"/>
          </a:xfrm>
        </p:grpSpPr>
        <p:pic>
          <p:nvPicPr>
            <p:cNvPr id="553" name="" descr=""/>
            <p:cNvPicPr/>
            <p:nvPr/>
          </p:nvPicPr>
          <p:blipFill>
            <a:blip r:embed="rId1"/>
            <a:stretch/>
          </p:blipFill>
          <p:spPr>
            <a:xfrm>
              <a:off x="5819760" y="1447920"/>
              <a:ext cx="3019320" cy="4647960"/>
            </a:xfrm>
            <a:prstGeom prst="rect">
              <a:avLst/>
            </a:prstGeom>
            <a:ln w="38160">
              <a:solidFill>
                <a:srgbClr val="663300"/>
              </a:solidFill>
              <a:miter/>
            </a:ln>
          </p:spPr>
        </p:pic>
        <p:sp>
          <p:nvSpPr>
            <p:cNvPr id="554" name=""/>
            <p:cNvSpPr txBox="1"/>
            <p:nvPr/>
          </p:nvSpPr>
          <p:spPr>
            <a:xfrm>
              <a:off x="5819760" y="1447920"/>
              <a:ext cx="3019320" cy="464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1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914400"/>
            <a:ext cx="8229600" cy="190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  Ammunition Basic Load (AB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 Mission/Operational/Combat Configured Load (MCL/OCL/CC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  Strategic Configured Load (SC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O A             FM 4-30.1                  Slide 10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1532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What are the three types of munitions configured loads?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28954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MATCHING:  Use selections A through C above to match the type of munitions configured load to its description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09480" y="3532320"/>
          <a:ext cx="8077320" cy="2649240"/>
        </p:xfrm>
        <a:graphic>
          <a:graphicData uri="http://schemas.openxmlformats.org/drawingml/2006/table">
            <a:tbl>
              <a:tblPr/>
              <a:tblGrid>
                <a:gridCol w="2438640"/>
                <a:gridCol w="5638680"/>
              </a:tblGrid>
              <a:tr h="96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b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-planned packages of ammunition designed to support a type of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unit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weapon system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r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ission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b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quantity of ammunition either allocated or issued to a unit to sustain its operations in combat until it can be resupplied.  (required to be on hand in a uni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3eb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lk ammunition prepared at a CONUS ammunition depot for delivery to a theater of operations configured in a complete round mix for artillery units or in weapon system mix for other system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609480" y="632448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O F           FM 4-30.1     Slide 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461628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munition Basic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5334120"/>
            <a:ext cx="2286000" cy="838080"/>
          </a:xfrm>
          <a:prstGeom prst="rect">
            <a:avLst/>
          </a:prstGeom>
          <a:solidFill>
            <a:srgbClr val="d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Configu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(SC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3505320"/>
            <a:ext cx="2438640" cy="1066680"/>
          </a:xfrm>
          <a:prstGeom prst="rect">
            <a:avLst/>
          </a:prstGeom>
          <a:solidFill>
            <a:srgbClr val="d6ec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on/Operational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at Configu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7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9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35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85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3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65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99072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Identify the company, platoon, and sections shown here in yellow that provide ammunition by filling in all the organizational elements of a heavy brigade combat team (HBC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162920" y="62485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heck your answ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nextslide"/>
          </p:cNvPr>
          <p:cNvSpPr/>
          <p:nvPr/>
        </p:nvSpPr>
        <p:spPr>
          <a:xfrm>
            <a:off x="8458200" y="640080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07732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9588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5680" y="2685960"/>
            <a:ext cx="2971800" cy="838440"/>
          </a:xfrm>
          <a:custGeom>
            <a:avLst/>
            <a:gdLst/>
            <a:ahLst/>
            <a:rect l="l" t="t" r="r" b="b"/>
            <a:pathLst>
              <a:path w="1872" h="528">
                <a:moveTo>
                  <a:pt x="0" y="0"/>
                </a:moveTo>
                <a:lnTo>
                  <a:pt x="1872" y="0"/>
                </a:lnTo>
                <a:lnTo>
                  <a:pt x="1872" y="528"/>
                </a:lnTo>
                <a:lnTo>
                  <a:pt x="0" y="52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751200" y="2994840"/>
            <a:ext cx="909720" cy="45252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46520" y="2990880"/>
            <a:ext cx="914400" cy="4572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37200" y="278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75280" y="278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69360" y="2989440"/>
            <a:ext cx="914400" cy="4572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7996320" y="2786040"/>
            <a:ext cx="61920" cy="152280"/>
            <a:chOff x="7996320" y="2786040"/>
            <a:chExt cx="61920" cy="152280"/>
          </a:xfrm>
        </p:grpSpPr>
        <p:sp>
          <p:nvSpPr>
            <p:cNvPr id="77" name=""/>
            <p:cNvSpPr/>
            <p:nvPr/>
          </p:nvSpPr>
          <p:spPr>
            <a:xfrm>
              <a:off x="8058240" y="27860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996320" y="27860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 flipV="1">
            <a:off x="952560" y="2600280"/>
            <a:ext cx="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489040" y="2600280"/>
            <a:ext cx="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52560" y="2600280"/>
            <a:ext cx="709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10160" y="2457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044800" y="2790720"/>
            <a:ext cx="823680" cy="652320"/>
            <a:chOff x="2044800" y="2790720"/>
            <a:chExt cx="823680" cy="652320"/>
          </a:xfrm>
        </p:grpSpPr>
        <p:sp>
          <p:nvSpPr>
            <p:cNvPr id="84" name=""/>
            <p:cNvSpPr/>
            <p:nvPr/>
          </p:nvSpPr>
          <p:spPr>
            <a:xfrm>
              <a:off x="2044800" y="2985840"/>
              <a:ext cx="823680" cy="4572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T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2432520" y="2790720"/>
              <a:ext cx="56160" cy="152280"/>
              <a:chOff x="2432520" y="2790720"/>
              <a:chExt cx="56160" cy="152280"/>
            </a:xfrm>
          </p:grpSpPr>
          <p:sp>
            <p:nvSpPr>
              <p:cNvPr id="86" name=""/>
              <p:cNvSpPr/>
              <p:nvPr/>
            </p:nvSpPr>
            <p:spPr>
              <a:xfrm>
                <a:off x="2488680" y="2790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432520" y="2790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" name=""/>
          <p:cNvGrpSpPr/>
          <p:nvPr/>
        </p:nvGrpSpPr>
        <p:grpSpPr>
          <a:xfrm>
            <a:off x="507960" y="2800440"/>
            <a:ext cx="914400" cy="666000"/>
            <a:chOff x="507960" y="2800440"/>
            <a:chExt cx="914400" cy="666000"/>
          </a:xfrm>
        </p:grpSpPr>
        <p:grpSp>
          <p:nvGrpSpPr>
            <p:cNvPr id="89" name=""/>
            <p:cNvGrpSpPr/>
            <p:nvPr/>
          </p:nvGrpSpPr>
          <p:grpSpPr>
            <a:xfrm>
              <a:off x="934920" y="2800440"/>
              <a:ext cx="61920" cy="152280"/>
              <a:chOff x="934920" y="2800440"/>
              <a:chExt cx="61920" cy="152280"/>
            </a:xfrm>
          </p:grpSpPr>
          <p:sp>
            <p:nvSpPr>
              <p:cNvPr id="90" name=""/>
              <p:cNvSpPr/>
              <p:nvPr/>
            </p:nvSpPr>
            <p:spPr>
              <a:xfrm>
                <a:off x="996840" y="280044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934920" y="280044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507960" y="3003480"/>
              <a:ext cx="914400" cy="462960"/>
              <a:chOff x="507960" y="3003480"/>
              <a:chExt cx="914400" cy="462960"/>
            </a:xfrm>
          </p:grpSpPr>
          <p:sp>
            <p:nvSpPr>
              <p:cNvPr id="93" name=""/>
              <p:cNvSpPr/>
              <p:nvPr/>
            </p:nvSpPr>
            <p:spPr>
              <a:xfrm>
                <a:off x="507960" y="3003480"/>
                <a:ext cx="914400" cy="45684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15960" y="3009600"/>
                <a:ext cx="70164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PT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BSB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" name=""/>
          <p:cNvSpPr/>
          <p:nvPr/>
        </p:nvSpPr>
        <p:spPr>
          <a:xfrm>
            <a:off x="1663560" y="3032280"/>
            <a:ext cx="1270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080" rIns="64080" tIns="32040" bIns="320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975440" y="3160800"/>
            <a:ext cx="10188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23760" y="3898800"/>
            <a:ext cx="642960" cy="371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30960" bIns="30960" anchor="ctr">
            <a:noAutofit/>
          </a:bodyPr>
          <a:p>
            <a:pPr algn="ctr"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16080" y="3672000"/>
            <a:ext cx="1270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080" rIns="64080" tIns="32040" bIns="32040" anchor="t">
            <a:spAutoFit/>
          </a:bodyPr>
          <a:p>
            <a:pPr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8640" y="3645000"/>
            <a:ext cx="1270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080" rIns="64080" tIns="32040" bIns="32040" anchor="t">
            <a:spAutoFit/>
          </a:bodyPr>
          <a:p>
            <a:pPr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19320" y="3645000"/>
            <a:ext cx="1267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080" rIns="64080" tIns="32040" bIns="32040" anchor="t">
            <a:spAutoFit/>
          </a:bodyPr>
          <a:p>
            <a:pPr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73240" y="3645000"/>
            <a:ext cx="1270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080" rIns="64080" tIns="32040" bIns="32040" anchor="t">
            <a:spAutoFit/>
          </a:bodyPr>
          <a:p>
            <a:pPr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55760" y="362232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254240" y="362232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136600" y="361296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06480" y="3898800"/>
            <a:ext cx="64296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30960" bIns="30960" anchor="ctr">
            <a:noAutofit/>
          </a:bodyPr>
          <a:p>
            <a:pPr algn="ctr"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LD M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7840" y="36133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951280" y="361296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3040" y="3894120"/>
            <a:ext cx="50040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30960" bIns="30960" anchor="ctr">
            <a:noAutofit/>
          </a:bodyPr>
          <a:p>
            <a:pPr algn="ctr"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H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46360" y="3908520"/>
            <a:ext cx="61596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30960" bIns="30960" anchor="ctr">
            <a:noAutofit/>
          </a:bodyPr>
          <a:p>
            <a:pPr algn="ctr"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65160" y="34574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8051760" y="2610000"/>
            <a:ext cx="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6108840" y="2610000"/>
            <a:ext cx="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205160" y="2600280"/>
            <a:ext cx="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32040" y="4197240"/>
            <a:ext cx="116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35400" y="4205160"/>
            <a:ext cx="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32040" y="4205160"/>
            <a:ext cx="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22800" y="401148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525920" y="4448160"/>
            <a:ext cx="544680" cy="366840"/>
            <a:chOff x="4525920" y="4448160"/>
            <a:chExt cx="544680" cy="366840"/>
          </a:xfrm>
        </p:grpSpPr>
        <p:sp>
          <p:nvSpPr>
            <p:cNvPr id="119" name=""/>
            <p:cNvSpPr/>
            <p:nvPr/>
          </p:nvSpPr>
          <p:spPr>
            <a:xfrm>
              <a:off x="4559400" y="4448160"/>
              <a:ext cx="446040" cy="33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25920" y="4448160"/>
              <a:ext cx="54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30960" bIns="30960" anchor="t">
              <a:spAutoFit/>
            </a:bodyPr>
            <a:p>
              <a:pPr algn="ctr">
                <a:tabLst>
                  <a:tab algn="l" pos="0"/>
                  <a:tab algn="l" pos="639720"/>
                  <a:tab algn="l" pos="1279440"/>
                  <a:tab algn="l" pos="1919160"/>
                  <a:tab algn="l" pos="2558880"/>
                  <a:tab algn="l" pos="3198960"/>
                  <a:tab algn="l" pos="3838680"/>
                  <a:tab algn="l" pos="4478400"/>
                  <a:tab algn="l" pos="5118120"/>
                  <a:tab algn="l" pos="5757840"/>
                  <a:tab algn="l" pos="6397560"/>
                  <a:tab algn="l" pos="7037280"/>
                  <a:tab algn="l" pos="7677000"/>
                  <a:tab algn="l" pos="8317080"/>
                  <a:tab algn="l" pos="8956800"/>
                  <a:tab algn="l" pos="9596520"/>
                  <a:tab algn="l" pos="10236240"/>
                  <a:tab algn="l" pos="10875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I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39720"/>
                  <a:tab algn="l" pos="1279440"/>
                  <a:tab algn="l" pos="1919160"/>
                  <a:tab algn="l" pos="2558880"/>
                  <a:tab algn="l" pos="3198960"/>
                  <a:tab algn="l" pos="3838680"/>
                  <a:tab algn="l" pos="4478400"/>
                  <a:tab algn="l" pos="5118120"/>
                  <a:tab algn="l" pos="5757840"/>
                  <a:tab algn="l" pos="6397560"/>
                  <a:tab algn="l" pos="7037280"/>
                  <a:tab algn="l" pos="7677000"/>
                  <a:tab algn="l" pos="8317080"/>
                  <a:tab algn="l" pos="8956800"/>
                  <a:tab algn="l" pos="9596520"/>
                  <a:tab algn="l" pos="10236240"/>
                  <a:tab algn="l" pos="10875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4794120" y="4195800"/>
            <a:ext cx="1800" cy="23184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0"/>
                </a:moveTo>
                <a:lnTo>
                  <a:pt x="0" y="19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11760" y="3670200"/>
            <a:ext cx="609480" cy="343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6320" y="34671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56200" y="3703680"/>
            <a:ext cx="126720" cy="261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080" rIns="64080" tIns="32040" bIns="320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94240" y="3681360"/>
            <a:ext cx="1270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080" rIns="64080" tIns="32040" bIns="32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30800" y="4446720"/>
            <a:ext cx="139680" cy="198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30960" bIns="30960" anchor="t">
            <a:spAutoFit/>
          </a:bodyPr>
          <a:p>
            <a:pPr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10040" y="4452840"/>
            <a:ext cx="446040" cy="3398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392640" y="4397400"/>
            <a:ext cx="544320" cy="390240"/>
            <a:chOff x="3392640" y="4397400"/>
            <a:chExt cx="544320" cy="390240"/>
          </a:xfrm>
        </p:grpSpPr>
        <p:sp>
          <p:nvSpPr>
            <p:cNvPr id="129" name=""/>
            <p:cNvSpPr/>
            <p:nvPr/>
          </p:nvSpPr>
          <p:spPr>
            <a:xfrm>
              <a:off x="3741480" y="4397400"/>
              <a:ext cx="1267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0960" bIns="30960" anchor="t">
              <a:spAutoFit/>
            </a:bodyPr>
            <a:p>
              <a:pPr>
                <a:tabLst>
                  <a:tab algn="l" pos="0"/>
                  <a:tab algn="l" pos="639720"/>
                  <a:tab algn="l" pos="1279440"/>
                  <a:tab algn="l" pos="1919160"/>
                  <a:tab algn="l" pos="2558880"/>
                  <a:tab algn="l" pos="3198960"/>
                  <a:tab algn="l" pos="3838680"/>
                  <a:tab algn="l" pos="4478400"/>
                  <a:tab algn="l" pos="5118120"/>
                  <a:tab algn="l" pos="5757840"/>
                  <a:tab algn="l" pos="6397560"/>
                  <a:tab algn="l" pos="7037280"/>
                  <a:tab algn="l" pos="7677000"/>
                  <a:tab algn="l" pos="8317080"/>
                  <a:tab algn="l" pos="8956800"/>
                  <a:tab algn="l" pos="9596520"/>
                  <a:tab algn="l" pos="10236240"/>
                  <a:tab algn="l" pos="10875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765600" y="4441680"/>
              <a:ext cx="12636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0960" bIns="30960" anchor="t">
              <a:spAutoFit/>
            </a:bodyPr>
            <a:p>
              <a:pPr>
                <a:tabLst>
                  <a:tab algn="l" pos="0"/>
                  <a:tab algn="l" pos="639720"/>
                  <a:tab algn="l" pos="1279440"/>
                  <a:tab algn="l" pos="1919160"/>
                  <a:tab algn="l" pos="2558880"/>
                  <a:tab algn="l" pos="3198960"/>
                  <a:tab algn="l" pos="3838680"/>
                  <a:tab algn="l" pos="4478400"/>
                  <a:tab algn="l" pos="5118120"/>
                  <a:tab algn="l" pos="5757840"/>
                  <a:tab algn="l" pos="6397560"/>
                  <a:tab algn="l" pos="7037280"/>
                  <a:tab algn="l" pos="7677000"/>
                  <a:tab algn="l" pos="8317080"/>
                  <a:tab algn="l" pos="8956800"/>
                  <a:tab algn="l" pos="9596520"/>
                  <a:tab algn="l" pos="10236240"/>
                  <a:tab algn="l" pos="10875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38360" y="4448160"/>
              <a:ext cx="44568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92640" y="4505040"/>
              <a:ext cx="5443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30960" bIns="30960" anchor="t">
              <a:spAutoFit/>
            </a:bodyPr>
            <a:p>
              <a:pPr algn="ctr">
                <a:tabLst>
                  <a:tab algn="l" pos="0"/>
                  <a:tab algn="l" pos="639720"/>
                  <a:tab algn="l" pos="1279440"/>
                  <a:tab algn="l" pos="1919160"/>
                  <a:tab algn="l" pos="2558880"/>
                  <a:tab algn="l" pos="3198960"/>
                  <a:tab algn="l" pos="3838680"/>
                  <a:tab algn="l" pos="4478400"/>
                  <a:tab algn="l" pos="5118120"/>
                  <a:tab algn="l" pos="5757840"/>
                  <a:tab algn="l" pos="6397560"/>
                  <a:tab algn="l" pos="7037280"/>
                  <a:tab algn="l" pos="7677000"/>
                  <a:tab algn="l" pos="8317080"/>
                  <a:tab algn="l" pos="8956800"/>
                  <a:tab algn="l" pos="9596520"/>
                  <a:tab algn="l" pos="10236240"/>
                  <a:tab algn="l" pos="10875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Q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5548320" y="4202280"/>
            <a:ext cx="116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32600" y="42102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48320" y="42102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38720" y="4016520"/>
            <a:ext cx="0" cy="19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42200" y="4451400"/>
            <a:ext cx="591840" cy="368280"/>
            <a:chOff x="6442200" y="4451400"/>
            <a:chExt cx="591840" cy="368280"/>
          </a:xfrm>
        </p:grpSpPr>
        <p:sp>
          <p:nvSpPr>
            <p:cNvPr id="138" name=""/>
            <p:cNvSpPr/>
            <p:nvPr/>
          </p:nvSpPr>
          <p:spPr>
            <a:xfrm>
              <a:off x="6475320" y="4452840"/>
              <a:ext cx="446040" cy="33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42200" y="4452840"/>
              <a:ext cx="54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30960" bIns="30960" anchor="t">
              <a:spAutoFit/>
            </a:bodyPr>
            <a:p>
              <a:pPr algn="ctr">
                <a:tabLst>
                  <a:tab algn="l" pos="0"/>
                  <a:tab algn="l" pos="639720"/>
                  <a:tab algn="l" pos="1279440"/>
                  <a:tab algn="l" pos="1919160"/>
                  <a:tab algn="l" pos="2558880"/>
                  <a:tab algn="l" pos="3198960"/>
                  <a:tab algn="l" pos="3838680"/>
                  <a:tab algn="l" pos="4478400"/>
                  <a:tab algn="l" pos="5118120"/>
                  <a:tab algn="l" pos="5757840"/>
                  <a:tab algn="l" pos="6397560"/>
                  <a:tab algn="l" pos="7037280"/>
                  <a:tab algn="l" pos="7677000"/>
                  <a:tab algn="l" pos="8317080"/>
                  <a:tab algn="l" pos="8956800"/>
                  <a:tab algn="l" pos="9596520"/>
                  <a:tab algn="l" pos="10236240"/>
                  <a:tab algn="l" pos="10875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I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39720"/>
                  <a:tab algn="l" pos="1279440"/>
                  <a:tab algn="l" pos="1919160"/>
                  <a:tab algn="l" pos="2558880"/>
                  <a:tab algn="l" pos="3198960"/>
                  <a:tab algn="l" pos="3838680"/>
                  <a:tab algn="l" pos="4478400"/>
                  <a:tab algn="l" pos="5118120"/>
                  <a:tab algn="l" pos="5757840"/>
                  <a:tab algn="l" pos="6397560"/>
                  <a:tab algn="l" pos="7037280"/>
                  <a:tab algn="l" pos="7677000"/>
                  <a:tab algn="l" pos="8317080"/>
                  <a:tab algn="l" pos="8956800"/>
                  <a:tab algn="l" pos="9596520"/>
                  <a:tab algn="l" pos="10236240"/>
                  <a:tab algn="l" pos="10875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07320" y="4451400"/>
              <a:ext cx="1267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0960" bIns="30960" anchor="t">
              <a:spAutoFit/>
            </a:bodyPr>
            <a:p>
              <a:pPr>
                <a:tabLst>
                  <a:tab algn="l" pos="0"/>
                  <a:tab algn="l" pos="639720"/>
                  <a:tab algn="l" pos="1279440"/>
                  <a:tab algn="l" pos="1919160"/>
                  <a:tab algn="l" pos="2558880"/>
                  <a:tab algn="l" pos="3198960"/>
                  <a:tab algn="l" pos="3838680"/>
                  <a:tab algn="l" pos="4478400"/>
                  <a:tab algn="l" pos="5118120"/>
                  <a:tab algn="l" pos="5757840"/>
                  <a:tab algn="l" pos="6397560"/>
                  <a:tab algn="l" pos="7037280"/>
                  <a:tab algn="l" pos="7677000"/>
                  <a:tab algn="l" pos="8317080"/>
                  <a:tab algn="l" pos="8956800"/>
                  <a:tab algn="l" pos="9596520"/>
                  <a:tab algn="l" pos="10236240"/>
                  <a:tab algn="l" pos="10875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6710400" y="4200480"/>
            <a:ext cx="1440" cy="23184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0"/>
                </a:moveTo>
                <a:lnTo>
                  <a:pt x="0" y="19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827680" y="3471840"/>
            <a:ext cx="609480" cy="545760"/>
            <a:chOff x="5827680" y="3471840"/>
            <a:chExt cx="609480" cy="545760"/>
          </a:xfrm>
        </p:grpSpPr>
        <p:sp>
          <p:nvSpPr>
            <p:cNvPr id="143" name=""/>
            <p:cNvSpPr/>
            <p:nvPr/>
          </p:nvSpPr>
          <p:spPr>
            <a:xfrm>
              <a:off x="5827680" y="3674160"/>
              <a:ext cx="609480" cy="343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32240" y="34718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71760" y="3708000"/>
              <a:ext cx="126720" cy="262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080" rIns="64080" tIns="32040" bIns="320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6410160" y="3686040"/>
            <a:ext cx="1270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080" rIns="64080" tIns="32040" bIns="32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46720" y="4451400"/>
            <a:ext cx="139680" cy="198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30960" bIns="30960" anchor="t">
            <a:spAutoFit/>
          </a:bodyPr>
          <a:p>
            <a:pPr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25960" y="4457880"/>
            <a:ext cx="446400" cy="339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308560" y="4402080"/>
            <a:ext cx="544680" cy="390240"/>
            <a:chOff x="5308560" y="4402080"/>
            <a:chExt cx="544680" cy="390240"/>
          </a:xfrm>
        </p:grpSpPr>
        <p:sp>
          <p:nvSpPr>
            <p:cNvPr id="150" name=""/>
            <p:cNvSpPr/>
            <p:nvPr/>
          </p:nvSpPr>
          <p:spPr>
            <a:xfrm>
              <a:off x="5657760" y="4402080"/>
              <a:ext cx="1270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0960" bIns="30960" anchor="t">
              <a:spAutoFit/>
            </a:bodyPr>
            <a:p>
              <a:pPr>
                <a:tabLst>
                  <a:tab algn="l" pos="0"/>
                  <a:tab algn="l" pos="639720"/>
                  <a:tab algn="l" pos="1279440"/>
                  <a:tab algn="l" pos="1919160"/>
                  <a:tab algn="l" pos="2558880"/>
                  <a:tab algn="l" pos="3198960"/>
                  <a:tab algn="l" pos="3838680"/>
                  <a:tab algn="l" pos="4478400"/>
                  <a:tab algn="l" pos="5118120"/>
                  <a:tab algn="l" pos="5757840"/>
                  <a:tab algn="l" pos="6397560"/>
                  <a:tab algn="l" pos="7037280"/>
                  <a:tab algn="l" pos="7677000"/>
                  <a:tab algn="l" pos="8317080"/>
                  <a:tab algn="l" pos="8956800"/>
                  <a:tab algn="l" pos="9596520"/>
                  <a:tab algn="l" pos="10236240"/>
                  <a:tab algn="l" pos="10875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681880" y="4446360"/>
              <a:ext cx="12672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0960" bIns="30960" anchor="t">
              <a:spAutoFit/>
            </a:bodyPr>
            <a:p>
              <a:pPr>
                <a:tabLst>
                  <a:tab algn="l" pos="0"/>
                  <a:tab algn="l" pos="639720"/>
                  <a:tab algn="l" pos="1279440"/>
                  <a:tab algn="l" pos="1919160"/>
                  <a:tab algn="l" pos="2558880"/>
                  <a:tab algn="l" pos="3198960"/>
                  <a:tab algn="l" pos="3838680"/>
                  <a:tab algn="l" pos="4478400"/>
                  <a:tab algn="l" pos="5118120"/>
                  <a:tab algn="l" pos="5757840"/>
                  <a:tab algn="l" pos="6397560"/>
                  <a:tab algn="l" pos="7037280"/>
                  <a:tab algn="l" pos="7677000"/>
                  <a:tab algn="l" pos="8317080"/>
                  <a:tab algn="l" pos="8956800"/>
                  <a:tab algn="l" pos="9596520"/>
                  <a:tab algn="l" pos="10236240"/>
                  <a:tab algn="l" pos="10875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354640" y="4452840"/>
              <a:ext cx="44604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08560" y="4509720"/>
              <a:ext cx="54468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30960" bIns="30960" anchor="t">
              <a:spAutoFit/>
            </a:bodyPr>
            <a:p>
              <a:pPr algn="ctr">
                <a:tabLst>
                  <a:tab algn="l" pos="0"/>
                  <a:tab algn="l" pos="639720"/>
                  <a:tab algn="l" pos="1279440"/>
                  <a:tab algn="l" pos="1919160"/>
                  <a:tab algn="l" pos="2558880"/>
                  <a:tab algn="l" pos="3198960"/>
                  <a:tab algn="l" pos="3838680"/>
                  <a:tab algn="l" pos="4478400"/>
                  <a:tab algn="l" pos="5118120"/>
                  <a:tab algn="l" pos="5757840"/>
                  <a:tab algn="l" pos="6397560"/>
                  <a:tab algn="l" pos="7037280"/>
                  <a:tab algn="l" pos="7677000"/>
                  <a:tab algn="l" pos="8317080"/>
                  <a:tab algn="l" pos="8956800"/>
                  <a:tab algn="l" pos="9596520"/>
                  <a:tab algn="l" pos="10236240"/>
                  <a:tab algn="l" pos="10875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Q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7453440" y="4197240"/>
            <a:ext cx="116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037360" y="4205160"/>
            <a:ext cx="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453440" y="4205160"/>
            <a:ext cx="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043840" y="401148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8346960" y="4446720"/>
            <a:ext cx="592200" cy="368280"/>
            <a:chOff x="8346960" y="4446720"/>
            <a:chExt cx="592200" cy="368280"/>
          </a:xfrm>
        </p:grpSpPr>
        <p:sp>
          <p:nvSpPr>
            <p:cNvPr id="159" name=""/>
            <p:cNvSpPr/>
            <p:nvPr/>
          </p:nvSpPr>
          <p:spPr>
            <a:xfrm>
              <a:off x="8380440" y="4448160"/>
              <a:ext cx="446040" cy="339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346960" y="4448160"/>
              <a:ext cx="54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30960" bIns="30960" anchor="t">
              <a:spAutoFit/>
            </a:bodyPr>
            <a:p>
              <a:pPr algn="ctr">
                <a:tabLst>
                  <a:tab algn="l" pos="0"/>
                  <a:tab algn="l" pos="639720"/>
                  <a:tab algn="l" pos="1279440"/>
                  <a:tab algn="l" pos="1919160"/>
                  <a:tab algn="l" pos="2558880"/>
                  <a:tab algn="l" pos="3198960"/>
                  <a:tab algn="l" pos="3838680"/>
                  <a:tab algn="l" pos="4478400"/>
                  <a:tab algn="l" pos="5118120"/>
                  <a:tab algn="l" pos="5757840"/>
                  <a:tab algn="l" pos="6397560"/>
                  <a:tab algn="l" pos="7037280"/>
                  <a:tab algn="l" pos="7677000"/>
                  <a:tab algn="l" pos="8317080"/>
                  <a:tab algn="l" pos="8956800"/>
                  <a:tab algn="l" pos="9596520"/>
                  <a:tab algn="l" pos="10236240"/>
                  <a:tab algn="l" pos="10875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I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39720"/>
                  <a:tab algn="l" pos="1279440"/>
                  <a:tab algn="l" pos="1919160"/>
                  <a:tab algn="l" pos="2558880"/>
                  <a:tab algn="l" pos="3198960"/>
                  <a:tab algn="l" pos="3838680"/>
                  <a:tab algn="l" pos="4478400"/>
                  <a:tab algn="l" pos="5118120"/>
                  <a:tab algn="l" pos="5757840"/>
                  <a:tab algn="l" pos="6397560"/>
                  <a:tab algn="l" pos="7037280"/>
                  <a:tab algn="l" pos="7677000"/>
                  <a:tab algn="l" pos="8317080"/>
                  <a:tab algn="l" pos="8956800"/>
                  <a:tab algn="l" pos="9596520"/>
                  <a:tab algn="l" pos="10236240"/>
                  <a:tab algn="l" pos="10875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812080" y="4446720"/>
              <a:ext cx="1270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0960" bIns="30960" anchor="t">
              <a:spAutoFit/>
            </a:bodyPr>
            <a:p>
              <a:pPr>
                <a:tabLst>
                  <a:tab algn="l" pos="0"/>
                  <a:tab algn="l" pos="639720"/>
                  <a:tab algn="l" pos="1279440"/>
                  <a:tab algn="l" pos="1919160"/>
                  <a:tab algn="l" pos="2558880"/>
                  <a:tab algn="l" pos="3198960"/>
                  <a:tab algn="l" pos="3838680"/>
                  <a:tab algn="l" pos="4478400"/>
                  <a:tab algn="l" pos="5118120"/>
                  <a:tab algn="l" pos="5757840"/>
                  <a:tab algn="l" pos="6397560"/>
                  <a:tab algn="l" pos="7037280"/>
                  <a:tab algn="l" pos="7677000"/>
                  <a:tab algn="l" pos="8317080"/>
                  <a:tab algn="l" pos="8956800"/>
                  <a:tab algn="l" pos="9596520"/>
                  <a:tab algn="l" pos="10236240"/>
                  <a:tab algn="l" pos="10875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8615520" y="4195800"/>
            <a:ext cx="1440" cy="23184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0"/>
                </a:moveTo>
                <a:lnTo>
                  <a:pt x="0" y="19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732800" y="3467160"/>
            <a:ext cx="609480" cy="545760"/>
            <a:chOff x="7732800" y="3467160"/>
            <a:chExt cx="609480" cy="545760"/>
          </a:xfrm>
        </p:grpSpPr>
        <p:sp>
          <p:nvSpPr>
            <p:cNvPr id="164" name=""/>
            <p:cNvSpPr/>
            <p:nvPr/>
          </p:nvSpPr>
          <p:spPr>
            <a:xfrm>
              <a:off x="7732800" y="3669480"/>
              <a:ext cx="609480" cy="343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37360" y="34671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976880" y="3703320"/>
              <a:ext cx="126720" cy="262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080" rIns="64080" tIns="32040" bIns="320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8315280" y="3681360"/>
            <a:ext cx="1270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080" rIns="64080" tIns="32040" bIns="32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151840" y="4446720"/>
            <a:ext cx="139680" cy="198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30960" bIns="30960" anchor="t">
            <a:spAutoFit/>
          </a:bodyPr>
          <a:p>
            <a:pPr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31080" y="4452840"/>
            <a:ext cx="446040" cy="3398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213680" y="4397400"/>
            <a:ext cx="544320" cy="390240"/>
            <a:chOff x="7213680" y="4397400"/>
            <a:chExt cx="544320" cy="390240"/>
          </a:xfrm>
        </p:grpSpPr>
        <p:sp>
          <p:nvSpPr>
            <p:cNvPr id="171" name=""/>
            <p:cNvSpPr/>
            <p:nvPr/>
          </p:nvSpPr>
          <p:spPr>
            <a:xfrm>
              <a:off x="7562520" y="4397400"/>
              <a:ext cx="1267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0960" bIns="30960" anchor="t">
              <a:spAutoFit/>
            </a:bodyPr>
            <a:p>
              <a:pPr>
                <a:tabLst>
                  <a:tab algn="l" pos="0"/>
                  <a:tab algn="l" pos="639720"/>
                  <a:tab algn="l" pos="1279440"/>
                  <a:tab algn="l" pos="1919160"/>
                  <a:tab algn="l" pos="2558880"/>
                  <a:tab algn="l" pos="3198960"/>
                  <a:tab algn="l" pos="3838680"/>
                  <a:tab algn="l" pos="4478400"/>
                  <a:tab algn="l" pos="5118120"/>
                  <a:tab algn="l" pos="5757840"/>
                  <a:tab algn="l" pos="6397560"/>
                  <a:tab algn="l" pos="7037280"/>
                  <a:tab algn="l" pos="7677000"/>
                  <a:tab algn="l" pos="8317080"/>
                  <a:tab algn="l" pos="8956800"/>
                  <a:tab algn="l" pos="9596520"/>
                  <a:tab algn="l" pos="10236240"/>
                  <a:tab algn="l" pos="10875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586640" y="4441680"/>
              <a:ext cx="12636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0960" bIns="30960" anchor="t">
              <a:spAutoFit/>
            </a:bodyPr>
            <a:p>
              <a:pPr>
                <a:tabLst>
                  <a:tab algn="l" pos="0"/>
                  <a:tab algn="l" pos="639720"/>
                  <a:tab algn="l" pos="1279440"/>
                  <a:tab algn="l" pos="1919160"/>
                  <a:tab algn="l" pos="2558880"/>
                  <a:tab algn="l" pos="3198960"/>
                  <a:tab algn="l" pos="3838680"/>
                  <a:tab algn="l" pos="4478400"/>
                  <a:tab algn="l" pos="5118120"/>
                  <a:tab algn="l" pos="5757840"/>
                  <a:tab algn="l" pos="6397560"/>
                  <a:tab algn="l" pos="7037280"/>
                  <a:tab algn="l" pos="7677000"/>
                  <a:tab algn="l" pos="8317080"/>
                  <a:tab algn="l" pos="8956800"/>
                  <a:tab algn="l" pos="9596520"/>
                  <a:tab algn="l" pos="10236240"/>
                  <a:tab algn="l" pos="10875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259400" y="4448160"/>
              <a:ext cx="44568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213680" y="4505040"/>
              <a:ext cx="5443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30960" bIns="30960" anchor="t">
              <a:spAutoFit/>
            </a:bodyPr>
            <a:p>
              <a:pPr algn="ctr">
                <a:tabLst>
                  <a:tab algn="l" pos="0"/>
                  <a:tab algn="l" pos="639720"/>
                  <a:tab algn="l" pos="1279440"/>
                  <a:tab algn="l" pos="1919160"/>
                  <a:tab algn="l" pos="2558880"/>
                  <a:tab algn="l" pos="3198960"/>
                  <a:tab algn="l" pos="3838680"/>
                  <a:tab algn="l" pos="4478400"/>
                  <a:tab algn="l" pos="5118120"/>
                  <a:tab algn="l" pos="5757840"/>
                  <a:tab algn="l" pos="6397560"/>
                  <a:tab algn="l" pos="7037280"/>
                  <a:tab algn="l" pos="7677000"/>
                  <a:tab algn="l" pos="8317080"/>
                  <a:tab algn="l" pos="8956800"/>
                  <a:tab algn="l" pos="9596520"/>
                  <a:tab algn="l" pos="10236240"/>
                  <a:tab algn="l" pos="10875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Q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4148280" y="1676520"/>
            <a:ext cx="914400" cy="780480"/>
            <a:chOff x="4148280" y="1676520"/>
            <a:chExt cx="914400" cy="780480"/>
          </a:xfrm>
        </p:grpSpPr>
        <p:sp>
          <p:nvSpPr>
            <p:cNvPr id="176" name=""/>
            <p:cNvSpPr/>
            <p:nvPr/>
          </p:nvSpPr>
          <p:spPr>
            <a:xfrm>
              <a:off x="4453200" y="1676520"/>
              <a:ext cx="319320" cy="3351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48280" y="2000160"/>
              <a:ext cx="914400" cy="456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54840" y="2057400"/>
              <a:ext cx="685800" cy="368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835440" y="30481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65160" y="4502160"/>
            <a:ext cx="544680" cy="228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30960" bIns="30960" anchor="t">
            <a:spAutoFit/>
          </a:bodyPr>
          <a:p>
            <a:pPr algn="ctr"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12840" y="4286160"/>
            <a:ext cx="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5556240" y="2786040"/>
            <a:ext cx="1143000" cy="691920"/>
            <a:chOff x="5556240" y="2786040"/>
            <a:chExt cx="1143000" cy="691920"/>
          </a:xfrm>
        </p:grpSpPr>
        <p:sp>
          <p:nvSpPr>
            <p:cNvPr id="183" name=""/>
            <p:cNvSpPr/>
            <p:nvPr/>
          </p:nvSpPr>
          <p:spPr>
            <a:xfrm>
              <a:off x="5676840" y="3020760"/>
              <a:ext cx="914400" cy="4572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6078600" y="2786040"/>
              <a:ext cx="61920" cy="152280"/>
              <a:chOff x="6078600" y="2786040"/>
              <a:chExt cx="61920" cy="152280"/>
            </a:xfrm>
          </p:grpSpPr>
          <p:sp>
            <p:nvSpPr>
              <p:cNvPr id="185" name=""/>
              <p:cNvSpPr/>
              <p:nvPr/>
            </p:nvSpPr>
            <p:spPr>
              <a:xfrm>
                <a:off x="6140520" y="278604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078600" y="278604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5645160" y="2984400"/>
              <a:ext cx="914400" cy="45720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556240" y="304776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N B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7837560" y="5105520"/>
            <a:ext cx="544320" cy="228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30960" bIns="30960" anchor="t">
            <a:spAutoFit/>
          </a:bodyPr>
          <a:p>
            <a:pPr algn="ctr"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67280" y="5105520"/>
            <a:ext cx="544680" cy="228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30960" bIns="30960" anchor="t">
            <a:spAutoFit/>
          </a:bodyPr>
          <a:p>
            <a:pPr algn="ctr"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62520" y="5105520"/>
            <a:ext cx="533160" cy="228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30960" bIns="30960" anchor="t">
            <a:spAutoFit/>
          </a:bodyPr>
          <a:p>
            <a:pPr algn="ctr"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99072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Identify the company, platoon, and sections shown here in yellow that provide ammunition by filling in all the organizational elements of a heavy brigade combat team (HBC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" action="ppaction://hlinkshowjump?jump=nextslide"/>
          </p:cNvPr>
          <p:cNvSpPr/>
          <p:nvPr/>
        </p:nvSpPr>
        <p:spPr>
          <a:xfrm>
            <a:off x="8458200" y="640080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07732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9112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5680" y="2685960"/>
            <a:ext cx="2971800" cy="838440"/>
          </a:xfrm>
          <a:custGeom>
            <a:avLst/>
            <a:gdLst/>
            <a:ahLst/>
            <a:rect l="l" t="t" r="r" b="b"/>
            <a:pathLst>
              <a:path w="1872" h="528">
                <a:moveTo>
                  <a:pt x="0" y="0"/>
                </a:moveTo>
                <a:lnTo>
                  <a:pt x="1872" y="0"/>
                </a:lnTo>
                <a:lnTo>
                  <a:pt x="1872" y="528"/>
                </a:lnTo>
                <a:lnTo>
                  <a:pt x="0" y="52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751200" y="2994840"/>
            <a:ext cx="909720" cy="45252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746520" y="2990880"/>
            <a:ext cx="914400" cy="45720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237200" y="278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75280" y="278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569360" y="2989440"/>
            <a:ext cx="9144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996320" y="2786040"/>
            <a:ext cx="61920" cy="152280"/>
            <a:chOff x="7996320" y="2786040"/>
            <a:chExt cx="61920" cy="152280"/>
          </a:xfrm>
        </p:grpSpPr>
        <p:sp>
          <p:nvSpPr>
            <p:cNvPr id="205" name=""/>
            <p:cNvSpPr/>
            <p:nvPr/>
          </p:nvSpPr>
          <p:spPr>
            <a:xfrm>
              <a:off x="8058240" y="27860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96320" y="27860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 flipV="1">
            <a:off x="952560" y="2600280"/>
            <a:ext cx="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489040" y="2600280"/>
            <a:ext cx="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52560" y="2600280"/>
            <a:ext cx="709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10160" y="2457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044800" y="2790720"/>
            <a:ext cx="914400" cy="652320"/>
            <a:chOff x="2044800" y="2790720"/>
            <a:chExt cx="914400" cy="652320"/>
          </a:xfrm>
        </p:grpSpPr>
        <p:sp>
          <p:nvSpPr>
            <p:cNvPr id="212" name=""/>
            <p:cNvSpPr/>
            <p:nvPr/>
          </p:nvSpPr>
          <p:spPr>
            <a:xfrm>
              <a:off x="2044800" y="2985840"/>
              <a:ext cx="914400" cy="4572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T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2475360" y="2790720"/>
              <a:ext cx="62640" cy="152280"/>
              <a:chOff x="2475360" y="2790720"/>
              <a:chExt cx="62640" cy="152280"/>
            </a:xfrm>
          </p:grpSpPr>
          <p:sp>
            <p:nvSpPr>
              <p:cNvPr id="214" name=""/>
              <p:cNvSpPr/>
              <p:nvPr/>
            </p:nvSpPr>
            <p:spPr>
              <a:xfrm>
                <a:off x="2538000" y="2790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475360" y="2790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6" name=""/>
          <p:cNvGrpSpPr/>
          <p:nvPr/>
        </p:nvGrpSpPr>
        <p:grpSpPr>
          <a:xfrm>
            <a:off x="507960" y="2800440"/>
            <a:ext cx="914400" cy="666000"/>
            <a:chOff x="507960" y="2800440"/>
            <a:chExt cx="914400" cy="666000"/>
          </a:xfrm>
        </p:grpSpPr>
        <p:grpSp>
          <p:nvGrpSpPr>
            <p:cNvPr id="217" name=""/>
            <p:cNvGrpSpPr/>
            <p:nvPr/>
          </p:nvGrpSpPr>
          <p:grpSpPr>
            <a:xfrm>
              <a:off x="934920" y="2800440"/>
              <a:ext cx="61920" cy="152280"/>
              <a:chOff x="934920" y="2800440"/>
              <a:chExt cx="61920" cy="152280"/>
            </a:xfrm>
          </p:grpSpPr>
          <p:sp>
            <p:nvSpPr>
              <p:cNvPr id="218" name=""/>
              <p:cNvSpPr/>
              <p:nvPr/>
            </p:nvSpPr>
            <p:spPr>
              <a:xfrm>
                <a:off x="996840" y="280044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934920" y="280044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507960" y="3003480"/>
              <a:ext cx="914400" cy="462960"/>
              <a:chOff x="507960" y="3003480"/>
              <a:chExt cx="914400" cy="462960"/>
            </a:xfrm>
          </p:grpSpPr>
          <p:sp>
            <p:nvSpPr>
              <p:cNvPr id="221" name=""/>
              <p:cNvSpPr/>
              <p:nvPr/>
            </p:nvSpPr>
            <p:spPr>
              <a:xfrm>
                <a:off x="507960" y="3003480"/>
                <a:ext cx="914400" cy="45684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15960" y="3009600"/>
                <a:ext cx="701640" cy="45684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PT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BSB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3" name=""/>
          <p:cNvSpPr/>
          <p:nvPr/>
        </p:nvSpPr>
        <p:spPr>
          <a:xfrm>
            <a:off x="1663560" y="3032280"/>
            <a:ext cx="1270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080" rIns="64080" tIns="32040" bIns="320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975440" y="3160800"/>
            <a:ext cx="10188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23760" y="3898800"/>
            <a:ext cx="642960" cy="371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30960" bIns="30960" anchor="ctr">
            <a:noAutofit/>
          </a:bodyPr>
          <a:p>
            <a:pPr algn="ctr"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16080" y="3672000"/>
            <a:ext cx="1270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080" rIns="64080" tIns="32040" bIns="32040" anchor="t">
            <a:spAutoFit/>
          </a:bodyPr>
          <a:p>
            <a:pPr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8640" y="3645000"/>
            <a:ext cx="1270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080" rIns="64080" tIns="32040" bIns="32040" anchor="t">
            <a:spAutoFit/>
          </a:bodyPr>
          <a:p>
            <a:pPr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19320" y="3645000"/>
            <a:ext cx="1267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080" rIns="64080" tIns="32040" bIns="32040" anchor="t">
            <a:spAutoFit/>
          </a:bodyPr>
          <a:p>
            <a:pPr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973240" y="3645000"/>
            <a:ext cx="1270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080" rIns="64080" tIns="32040" bIns="32040" anchor="t">
            <a:spAutoFit/>
          </a:bodyPr>
          <a:p>
            <a:pPr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55760" y="362232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254240" y="362232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136600" y="361296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806480" y="3898800"/>
            <a:ext cx="64296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30960" bIns="30960" anchor="ctr">
            <a:noAutofit/>
          </a:bodyPr>
          <a:p>
            <a:pPr algn="ctr"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LD M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47840" y="36133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951280" y="361296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3040" y="3894120"/>
            <a:ext cx="50040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30960" bIns="30960" anchor="ctr">
            <a:noAutofit/>
          </a:bodyPr>
          <a:p>
            <a:pPr algn="ctr"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H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646360" y="3908520"/>
            <a:ext cx="61596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30960" bIns="30960" anchor="ctr">
            <a:noAutofit/>
          </a:bodyPr>
          <a:p>
            <a:pPr algn="ctr"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65160" y="34574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8051760" y="2610000"/>
            <a:ext cx="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6108840" y="2610000"/>
            <a:ext cx="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4205160" y="2600280"/>
            <a:ext cx="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632040" y="4197240"/>
            <a:ext cx="116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235400" y="4205160"/>
            <a:ext cx="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632040" y="4205160"/>
            <a:ext cx="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222800" y="401148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4525920" y="4448160"/>
            <a:ext cx="544680" cy="366840"/>
            <a:chOff x="4525920" y="4448160"/>
            <a:chExt cx="544680" cy="366840"/>
          </a:xfrm>
        </p:grpSpPr>
        <p:sp>
          <p:nvSpPr>
            <p:cNvPr id="247" name=""/>
            <p:cNvSpPr/>
            <p:nvPr/>
          </p:nvSpPr>
          <p:spPr>
            <a:xfrm>
              <a:off x="4559400" y="4448160"/>
              <a:ext cx="446040" cy="33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5920" y="4448160"/>
              <a:ext cx="54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30960" bIns="30960" anchor="t">
              <a:spAutoFit/>
            </a:bodyPr>
            <a:p>
              <a:pPr algn="ctr">
                <a:tabLst>
                  <a:tab algn="l" pos="0"/>
                  <a:tab algn="l" pos="639720"/>
                  <a:tab algn="l" pos="1279440"/>
                  <a:tab algn="l" pos="1919160"/>
                  <a:tab algn="l" pos="2558880"/>
                  <a:tab algn="l" pos="3198960"/>
                  <a:tab algn="l" pos="3838680"/>
                  <a:tab algn="l" pos="4478400"/>
                  <a:tab algn="l" pos="5118120"/>
                  <a:tab algn="l" pos="5757840"/>
                  <a:tab algn="l" pos="6397560"/>
                  <a:tab algn="l" pos="7037280"/>
                  <a:tab algn="l" pos="7677000"/>
                  <a:tab algn="l" pos="8317080"/>
                  <a:tab algn="l" pos="8956800"/>
                  <a:tab algn="l" pos="9596520"/>
                  <a:tab algn="l" pos="10236240"/>
                  <a:tab algn="l" pos="10875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I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39720"/>
                  <a:tab algn="l" pos="1279440"/>
                  <a:tab algn="l" pos="1919160"/>
                  <a:tab algn="l" pos="2558880"/>
                  <a:tab algn="l" pos="3198960"/>
                  <a:tab algn="l" pos="3838680"/>
                  <a:tab algn="l" pos="4478400"/>
                  <a:tab algn="l" pos="5118120"/>
                  <a:tab algn="l" pos="5757840"/>
                  <a:tab algn="l" pos="6397560"/>
                  <a:tab algn="l" pos="7037280"/>
                  <a:tab algn="l" pos="7677000"/>
                  <a:tab algn="l" pos="8317080"/>
                  <a:tab algn="l" pos="8956800"/>
                  <a:tab algn="l" pos="9596520"/>
                  <a:tab algn="l" pos="10236240"/>
                  <a:tab algn="l" pos="10875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4794120" y="4195800"/>
            <a:ext cx="1800" cy="23184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0"/>
                </a:moveTo>
                <a:lnTo>
                  <a:pt x="0" y="19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911760" y="3467160"/>
            <a:ext cx="609480" cy="545760"/>
            <a:chOff x="3911760" y="3467160"/>
            <a:chExt cx="609480" cy="545760"/>
          </a:xfrm>
        </p:grpSpPr>
        <p:sp>
          <p:nvSpPr>
            <p:cNvPr id="251" name=""/>
            <p:cNvSpPr/>
            <p:nvPr/>
          </p:nvSpPr>
          <p:spPr>
            <a:xfrm>
              <a:off x="3911760" y="3669480"/>
              <a:ext cx="609480" cy="343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216320" y="34671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90600" y="3703320"/>
              <a:ext cx="457920" cy="262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080" rIns="64080" tIns="32040" bIns="320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FSC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4494240" y="3681360"/>
            <a:ext cx="1270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080" rIns="64080" tIns="32040" bIns="32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963960" y="4446720"/>
            <a:ext cx="544320" cy="372960"/>
            <a:chOff x="3963960" y="4446720"/>
            <a:chExt cx="544320" cy="372960"/>
          </a:xfrm>
        </p:grpSpPr>
        <p:sp>
          <p:nvSpPr>
            <p:cNvPr id="256" name=""/>
            <p:cNvSpPr/>
            <p:nvPr/>
          </p:nvSpPr>
          <p:spPr>
            <a:xfrm>
              <a:off x="4330440" y="4446720"/>
              <a:ext cx="139680" cy="1983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0960" bIns="30960" anchor="t">
              <a:spAutoFit/>
            </a:bodyPr>
            <a:p>
              <a:pPr>
                <a:tabLst>
                  <a:tab algn="l" pos="0"/>
                  <a:tab algn="l" pos="639720"/>
                  <a:tab algn="l" pos="1279440"/>
                  <a:tab algn="l" pos="1919160"/>
                  <a:tab algn="l" pos="2558880"/>
                  <a:tab algn="l" pos="3198960"/>
                  <a:tab algn="l" pos="3838680"/>
                  <a:tab algn="l" pos="4478400"/>
                  <a:tab algn="l" pos="5118120"/>
                  <a:tab algn="l" pos="5757840"/>
                  <a:tab algn="l" pos="6397560"/>
                  <a:tab algn="l" pos="7037280"/>
                  <a:tab algn="l" pos="7677000"/>
                  <a:tab algn="l" pos="8317080"/>
                  <a:tab algn="l" pos="8956800"/>
                  <a:tab algn="l" pos="9596520"/>
                  <a:tab algn="l" pos="10236240"/>
                  <a:tab algn="l" pos="10875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09680" y="4452840"/>
              <a:ext cx="446400" cy="3398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963960" y="4452840"/>
              <a:ext cx="544320" cy="3668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30960" bIns="30960" anchor="t">
              <a:spAutoFit/>
            </a:bodyPr>
            <a:p>
              <a:pPr algn="ctr">
                <a:tabLst>
                  <a:tab algn="l" pos="0"/>
                  <a:tab algn="l" pos="639720"/>
                  <a:tab algn="l" pos="1279440"/>
                  <a:tab algn="l" pos="1919160"/>
                  <a:tab algn="l" pos="2558880"/>
                  <a:tab algn="l" pos="3198960"/>
                  <a:tab algn="l" pos="3838680"/>
                  <a:tab algn="l" pos="4478400"/>
                  <a:tab algn="l" pos="5118120"/>
                  <a:tab algn="l" pos="5757840"/>
                  <a:tab algn="l" pos="6397560"/>
                  <a:tab algn="l" pos="7037280"/>
                  <a:tab algn="l" pos="7677000"/>
                  <a:tab algn="l" pos="8317080"/>
                  <a:tab algn="l" pos="8956800"/>
                  <a:tab algn="l" pos="9596520"/>
                  <a:tab algn="l" pos="10236240"/>
                  <a:tab algn="l" pos="10875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S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39720"/>
                  <a:tab algn="l" pos="1279440"/>
                  <a:tab algn="l" pos="1919160"/>
                  <a:tab algn="l" pos="2558880"/>
                  <a:tab algn="l" pos="3198960"/>
                  <a:tab algn="l" pos="3838680"/>
                  <a:tab algn="l" pos="4478400"/>
                  <a:tab algn="l" pos="5118120"/>
                  <a:tab algn="l" pos="5757840"/>
                  <a:tab algn="l" pos="6397560"/>
                  <a:tab algn="l" pos="7037280"/>
                  <a:tab algn="l" pos="7677000"/>
                  <a:tab algn="l" pos="8317080"/>
                  <a:tab algn="l" pos="8956800"/>
                  <a:tab algn="l" pos="9596520"/>
                  <a:tab algn="l" pos="10236240"/>
                  <a:tab algn="l" pos="10875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3392640" y="4397400"/>
            <a:ext cx="544320" cy="390240"/>
            <a:chOff x="3392640" y="4397400"/>
            <a:chExt cx="544320" cy="390240"/>
          </a:xfrm>
        </p:grpSpPr>
        <p:sp>
          <p:nvSpPr>
            <p:cNvPr id="260" name=""/>
            <p:cNvSpPr/>
            <p:nvPr/>
          </p:nvSpPr>
          <p:spPr>
            <a:xfrm>
              <a:off x="3741480" y="4397400"/>
              <a:ext cx="1267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0960" bIns="30960" anchor="t">
              <a:spAutoFit/>
            </a:bodyPr>
            <a:p>
              <a:pPr>
                <a:tabLst>
                  <a:tab algn="l" pos="0"/>
                  <a:tab algn="l" pos="639720"/>
                  <a:tab algn="l" pos="1279440"/>
                  <a:tab algn="l" pos="1919160"/>
                  <a:tab algn="l" pos="2558880"/>
                  <a:tab algn="l" pos="3198960"/>
                  <a:tab algn="l" pos="3838680"/>
                  <a:tab algn="l" pos="4478400"/>
                  <a:tab algn="l" pos="5118120"/>
                  <a:tab algn="l" pos="5757840"/>
                  <a:tab algn="l" pos="6397560"/>
                  <a:tab algn="l" pos="7037280"/>
                  <a:tab algn="l" pos="7677000"/>
                  <a:tab algn="l" pos="8317080"/>
                  <a:tab algn="l" pos="8956800"/>
                  <a:tab algn="l" pos="9596520"/>
                  <a:tab algn="l" pos="10236240"/>
                  <a:tab algn="l" pos="10875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765600" y="4441680"/>
              <a:ext cx="12636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0960" bIns="30960" anchor="t">
              <a:spAutoFit/>
            </a:bodyPr>
            <a:p>
              <a:pPr>
                <a:tabLst>
                  <a:tab algn="l" pos="0"/>
                  <a:tab algn="l" pos="639720"/>
                  <a:tab algn="l" pos="1279440"/>
                  <a:tab algn="l" pos="1919160"/>
                  <a:tab algn="l" pos="2558880"/>
                  <a:tab algn="l" pos="3198960"/>
                  <a:tab algn="l" pos="3838680"/>
                  <a:tab algn="l" pos="4478400"/>
                  <a:tab algn="l" pos="5118120"/>
                  <a:tab algn="l" pos="5757840"/>
                  <a:tab algn="l" pos="6397560"/>
                  <a:tab algn="l" pos="7037280"/>
                  <a:tab algn="l" pos="7677000"/>
                  <a:tab algn="l" pos="8317080"/>
                  <a:tab algn="l" pos="8956800"/>
                  <a:tab algn="l" pos="9596520"/>
                  <a:tab algn="l" pos="10236240"/>
                  <a:tab algn="l" pos="10875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438360" y="4448160"/>
              <a:ext cx="44568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392640" y="4505040"/>
              <a:ext cx="5443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30960" bIns="30960" anchor="t">
              <a:spAutoFit/>
            </a:bodyPr>
            <a:p>
              <a:pPr algn="ctr">
                <a:tabLst>
                  <a:tab algn="l" pos="0"/>
                  <a:tab algn="l" pos="639720"/>
                  <a:tab algn="l" pos="1279440"/>
                  <a:tab algn="l" pos="1919160"/>
                  <a:tab algn="l" pos="2558880"/>
                  <a:tab algn="l" pos="3198960"/>
                  <a:tab algn="l" pos="3838680"/>
                  <a:tab algn="l" pos="4478400"/>
                  <a:tab algn="l" pos="5118120"/>
                  <a:tab algn="l" pos="5757840"/>
                  <a:tab algn="l" pos="6397560"/>
                  <a:tab algn="l" pos="7037280"/>
                  <a:tab algn="l" pos="7677000"/>
                  <a:tab algn="l" pos="8317080"/>
                  <a:tab algn="l" pos="8956800"/>
                  <a:tab algn="l" pos="9596520"/>
                  <a:tab algn="l" pos="10236240"/>
                  <a:tab algn="l" pos="10875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Q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5548320" y="4202280"/>
            <a:ext cx="116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132600" y="42102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48320" y="42102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38720" y="4016520"/>
            <a:ext cx="0" cy="19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442200" y="4451400"/>
            <a:ext cx="591840" cy="368280"/>
            <a:chOff x="6442200" y="4451400"/>
            <a:chExt cx="591840" cy="368280"/>
          </a:xfrm>
        </p:grpSpPr>
        <p:sp>
          <p:nvSpPr>
            <p:cNvPr id="269" name=""/>
            <p:cNvSpPr/>
            <p:nvPr/>
          </p:nvSpPr>
          <p:spPr>
            <a:xfrm>
              <a:off x="6475320" y="4452840"/>
              <a:ext cx="446040" cy="33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442200" y="4452840"/>
              <a:ext cx="54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30960" bIns="30960" anchor="t">
              <a:spAutoFit/>
            </a:bodyPr>
            <a:p>
              <a:pPr algn="ctr">
                <a:tabLst>
                  <a:tab algn="l" pos="0"/>
                  <a:tab algn="l" pos="639720"/>
                  <a:tab algn="l" pos="1279440"/>
                  <a:tab algn="l" pos="1919160"/>
                  <a:tab algn="l" pos="2558880"/>
                  <a:tab algn="l" pos="3198960"/>
                  <a:tab algn="l" pos="3838680"/>
                  <a:tab algn="l" pos="4478400"/>
                  <a:tab algn="l" pos="5118120"/>
                  <a:tab algn="l" pos="5757840"/>
                  <a:tab algn="l" pos="6397560"/>
                  <a:tab algn="l" pos="7037280"/>
                  <a:tab algn="l" pos="7677000"/>
                  <a:tab algn="l" pos="8317080"/>
                  <a:tab algn="l" pos="8956800"/>
                  <a:tab algn="l" pos="9596520"/>
                  <a:tab algn="l" pos="10236240"/>
                  <a:tab algn="l" pos="10875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I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39720"/>
                  <a:tab algn="l" pos="1279440"/>
                  <a:tab algn="l" pos="1919160"/>
                  <a:tab algn="l" pos="2558880"/>
                  <a:tab algn="l" pos="3198960"/>
                  <a:tab algn="l" pos="3838680"/>
                  <a:tab algn="l" pos="4478400"/>
                  <a:tab algn="l" pos="5118120"/>
                  <a:tab algn="l" pos="5757840"/>
                  <a:tab algn="l" pos="6397560"/>
                  <a:tab algn="l" pos="7037280"/>
                  <a:tab algn="l" pos="7677000"/>
                  <a:tab algn="l" pos="8317080"/>
                  <a:tab algn="l" pos="8956800"/>
                  <a:tab algn="l" pos="9596520"/>
                  <a:tab algn="l" pos="10236240"/>
                  <a:tab algn="l" pos="10875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907320" y="4451400"/>
              <a:ext cx="1267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0960" bIns="30960" anchor="t">
              <a:spAutoFit/>
            </a:bodyPr>
            <a:p>
              <a:pPr>
                <a:tabLst>
                  <a:tab algn="l" pos="0"/>
                  <a:tab algn="l" pos="639720"/>
                  <a:tab algn="l" pos="1279440"/>
                  <a:tab algn="l" pos="1919160"/>
                  <a:tab algn="l" pos="2558880"/>
                  <a:tab algn="l" pos="3198960"/>
                  <a:tab algn="l" pos="3838680"/>
                  <a:tab algn="l" pos="4478400"/>
                  <a:tab algn="l" pos="5118120"/>
                  <a:tab algn="l" pos="5757840"/>
                  <a:tab algn="l" pos="6397560"/>
                  <a:tab algn="l" pos="7037280"/>
                  <a:tab algn="l" pos="7677000"/>
                  <a:tab algn="l" pos="8317080"/>
                  <a:tab algn="l" pos="8956800"/>
                  <a:tab algn="l" pos="9596520"/>
                  <a:tab algn="l" pos="10236240"/>
                  <a:tab algn="l" pos="10875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6710400" y="4200480"/>
            <a:ext cx="1440" cy="23184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0"/>
                </a:moveTo>
                <a:lnTo>
                  <a:pt x="0" y="19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827680" y="3471840"/>
            <a:ext cx="609480" cy="545760"/>
            <a:chOff x="5827680" y="3471840"/>
            <a:chExt cx="609480" cy="545760"/>
          </a:xfrm>
        </p:grpSpPr>
        <p:sp>
          <p:nvSpPr>
            <p:cNvPr id="274" name=""/>
            <p:cNvSpPr/>
            <p:nvPr/>
          </p:nvSpPr>
          <p:spPr>
            <a:xfrm>
              <a:off x="5827680" y="3674160"/>
              <a:ext cx="609480" cy="343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32240" y="34718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06520" y="3708000"/>
              <a:ext cx="457920" cy="262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080" rIns="64080" tIns="32040" bIns="320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FSC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6410160" y="3686040"/>
            <a:ext cx="1270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080" rIns="64080" tIns="32040" bIns="32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880240" y="4451400"/>
            <a:ext cx="544320" cy="372960"/>
            <a:chOff x="5880240" y="4451400"/>
            <a:chExt cx="544320" cy="372960"/>
          </a:xfrm>
        </p:grpSpPr>
        <p:sp>
          <p:nvSpPr>
            <p:cNvPr id="279" name=""/>
            <p:cNvSpPr/>
            <p:nvPr/>
          </p:nvSpPr>
          <p:spPr>
            <a:xfrm>
              <a:off x="6246720" y="4451400"/>
              <a:ext cx="139680" cy="1983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0960" bIns="30960" anchor="t">
              <a:spAutoFit/>
            </a:bodyPr>
            <a:p>
              <a:pPr>
                <a:tabLst>
                  <a:tab algn="l" pos="0"/>
                  <a:tab algn="l" pos="639720"/>
                  <a:tab algn="l" pos="1279440"/>
                  <a:tab algn="l" pos="1919160"/>
                  <a:tab algn="l" pos="2558880"/>
                  <a:tab algn="l" pos="3198960"/>
                  <a:tab algn="l" pos="3838680"/>
                  <a:tab algn="l" pos="4478400"/>
                  <a:tab algn="l" pos="5118120"/>
                  <a:tab algn="l" pos="5757840"/>
                  <a:tab algn="l" pos="6397560"/>
                  <a:tab algn="l" pos="7037280"/>
                  <a:tab algn="l" pos="7677000"/>
                  <a:tab algn="l" pos="8317080"/>
                  <a:tab algn="l" pos="8956800"/>
                  <a:tab algn="l" pos="9596520"/>
                  <a:tab algn="l" pos="10236240"/>
                  <a:tab algn="l" pos="10875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925960" y="4457520"/>
              <a:ext cx="446400" cy="3398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80240" y="4457520"/>
              <a:ext cx="544320" cy="3668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30960" bIns="30960" anchor="t">
              <a:spAutoFit/>
            </a:bodyPr>
            <a:p>
              <a:pPr algn="ctr">
                <a:tabLst>
                  <a:tab algn="l" pos="0"/>
                  <a:tab algn="l" pos="639720"/>
                  <a:tab algn="l" pos="1279440"/>
                  <a:tab algn="l" pos="1919160"/>
                  <a:tab algn="l" pos="2558880"/>
                  <a:tab algn="l" pos="3198960"/>
                  <a:tab algn="l" pos="3838680"/>
                  <a:tab algn="l" pos="4478400"/>
                  <a:tab algn="l" pos="5118120"/>
                  <a:tab algn="l" pos="5757840"/>
                  <a:tab algn="l" pos="6397560"/>
                  <a:tab algn="l" pos="7037280"/>
                  <a:tab algn="l" pos="7677000"/>
                  <a:tab algn="l" pos="8317080"/>
                  <a:tab algn="l" pos="8956800"/>
                  <a:tab algn="l" pos="9596520"/>
                  <a:tab algn="l" pos="10236240"/>
                  <a:tab algn="l" pos="10875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S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39720"/>
                  <a:tab algn="l" pos="1279440"/>
                  <a:tab algn="l" pos="1919160"/>
                  <a:tab algn="l" pos="2558880"/>
                  <a:tab algn="l" pos="3198960"/>
                  <a:tab algn="l" pos="3838680"/>
                  <a:tab algn="l" pos="4478400"/>
                  <a:tab algn="l" pos="5118120"/>
                  <a:tab algn="l" pos="5757840"/>
                  <a:tab algn="l" pos="6397560"/>
                  <a:tab algn="l" pos="7037280"/>
                  <a:tab algn="l" pos="7677000"/>
                  <a:tab algn="l" pos="8317080"/>
                  <a:tab algn="l" pos="8956800"/>
                  <a:tab algn="l" pos="9596520"/>
                  <a:tab algn="l" pos="10236240"/>
                  <a:tab algn="l" pos="10875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5308560" y="4402080"/>
            <a:ext cx="544680" cy="390240"/>
            <a:chOff x="5308560" y="4402080"/>
            <a:chExt cx="544680" cy="390240"/>
          </a:xfrm>
        </p:grpSpPr>
        <p:sp>
          <p:nvSpPr>
            <p:cNvPr id="283" name=""/>
            <p:cNvSpPr/>
            <p:nvPr/>
          </p:nvSpPr>
          <p:spPr>
            <a:xfrm>
              <a:off x="5657760" y="4402080"/>
              <a:ext cx="1270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0960" bIns="30960" anchor="t">
              <a:spAutoFit/>
            </a:bodyPr>
            <a:p>
              <a:pPr>
                <a:tabLst>
                  <a:tab algn="l" pos="0"/>
                  <a:tab algn="l" pos="639720"/>
                  <a:tab algn="l" pos="1279440"/>
                  <a:tab algn="l" pos="1919160"/>
                  <a:tab algn="l" pos="2558880"/>
                  <a:tab algn="l" pos="3198960"/>
                  <a:tab algn="l" pos="3838680"/>
                  <a:tab algn="l" pos="4478400"/>
                  <a:tab algn="l" pos="5118120"/>
                  <a:tab algn="l" pos="5757840"/>
                  <a:tab algn="l" pos="6397560"/>
                  <a:tab algn="l" pos="7037280"/>
                  <a:tab algn="l" pos="7677000"/>
                  <a:tab algn="l" pos="8317080"/>
                  <a:tab algn="l" pos="8956800"/>
                  <a:tab algn="l" pos="9596520"/>
                  <a:tab algn="l" pos="10236240"/>
                  <a:tab algn="l" pos="10875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681880" y="4446360"/>
              <a:ext cx="12672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0960" bIns="30960" anchor="t">
              <a:spAutoFit/>
            </a:bodyPr>
            <a:p>
              <a:pPr>
                <a:tabLst>
                  <a:tab algn="l" pos="0"/>
                  <a:tab algn="l" pos="639720"/>
                  <a:tab algn="l" pos="1279440"/>
                  <a:tab algn="l" pos="1919160"/>
                  <a:tab algn="l" pos="2558880"/>
                  <a:tab algn="l" pos="3198960"/>
                  <a:tab algn="l" pos="3838680"/>
                  <a:tab algn="l" pos="4478400"/>
                  <a:tab algn="l" pos="5118120"/>
                  <a:tab algn="l" pos="5757840"/>
                  <a:tab algn="l" pos="6397560"/>
                  <a:tab algn="l" pos="7037280"/>
                  <a:tab algn="l" pos="7677000"/>
                  <a:tab algn="l" pos="8317080"/>
                  <a:tab algn="l" pos="8956800"/>
                  <a:tab algn="l" pos="9596520"/>
                  <a:tab algn="l" pos="10236240"/>
                  <a:tab algn="l" pos="10875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54640" y="4452840"/>
              <a:ext cx="44604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308560" y="4509720"/>
              <a:ext cx="54468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30960" bIns="30960" anchor="t">
              <a:spAutoFit/>
            </a:bodyPr>
            <a:p>
              <a:pPr algn="ctr">
                <a:tabLst>
                  <a:tab algn="l" pos="0"/>
                  <a:tab algn="l" pos="639720"/>
                  <a:tab algn="l" pos="1279440"/>
                  <a:tab algn="l" pos="1919160"/>
                  <a:tab algn="l" pos="2558880"/>
                  <a:tab algn="l" pos="3198960"/>
                  <a:tab algn="l" pos="3838680"/>
                  <a:tab algn="l" pos="4478400"/>
                  <a:tab algn="l" pos="5118120"/>
                  <a:tab algn="l" pos="5757840"/>
                  <a:tab algn="l" pos="6397560"/>
                  <a:tab algn="l" pos="7037280"/>
                  <a:tab algn="l" pos="7677000"/>
                  <a:tab algn="l" pos="8317080"/>
                  <a:tab algn="l" pos="8956800"/>
                  <a:tab algn="l" pos="9596520"/>
                  <a:tab algn="l" pos="10236240"/>
                  <a:tab algn="l" pos="10875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Q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7453440" y="4197240"/>
            <a:ext cx="116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037360" y="4205160"/>
            <a:ext cx="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453440" y="4205160"/>
            <a:ext cx="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043840" y="401148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8346960" y="4446720"/>
            <a:ext cx="592200" cy="368280"/>
            <a:chOff x="8346960" y="4446720"/>
            <a:chExt cx="592200" cy="368280"/>
          </a:xfrm>
        </p:grpSpPr>
        <p:sp>
          <p:nvSpPr>
            <p:cNvPr id="292" name=""/>
            <p:cNvSpPr/>
            <p:nvPr/>
          </p:nvSpPr>
          <p:spPr>
            <a:xfrm>
              <a:off x="8380440" y="4448160"/>
              <a:ext cx="446040" cy="339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346960" y="4448160"/>
              <a:ext cx="54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30960" bIns="30960" anchor="t">
              <a:spAutoFit/>
            </a:bodyPr>
            <a:p>
              <a:pPr algn="ctr">
                <a:tabLst>
                  <a:tab algn="l" pos="0"/>
                  <a:tab algn="l" pos="639720"/>
                  <a:tab algn="l" pos="1279440"/>
                  <a:tab algn="l" pos="1919160"/>
                  <a:tab algn="l" pos="2558880"/>
                  <a:tab algn="l" pos="3198960"/>
                  <a:tab algn="l" pos="3838680"/>
                  <a:tab algn="l" pos="4478400"/>
                  <a:tab algn="l" pos="5118120"/>
                  <a:tab algn="l" pos="5757840"/>
                  <a:tab algn="l" pos="6397560"/>
                  <a:tab algn="l" pos="7037280"/>
                  <a:tab algn="l" pos="7677000"/>
                  <a:tab algn="l" pos="8317080"/>
                  <a:tab algn="l" pos="8956800"/>
                  <a:tab algn="l" pos="9596520"/>
                  <a:tab algn="l" pos="10236240"/>
                  <a:tab algn="l" pos="10875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I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39720"/>
                  <a:tab algn="l" pos="1279440"/>
                  <a:tab algn="l" pos="1919160"/>
                  <a:tab algn="l" pos="2558880"/>
                  <a:tab algn="l" pos="3198960"/>
                  <a:tab algn="l" pos="3838680"/>
                  <a:tab algn="l" pos="4478400"/>
                  <a:tab algn="l" pos="5118120"/>
                  <a:tab algn="l" pos="5757840"/>
                  <a:tab algn="l" pos="6397560"/>
                  <a:tab algn="l" pos="7037280"/>
                  <a:tab algn="l" pos="7677000"/>
                  <a:tab algn="l" pos="8317080"/>
                  <a:tab algn="l" pos="8956800"/>
                  <a:tab algn="l" pos="9596520"/>
                  <a:tab algn="l" pos="10236240"/>
                  <a:tab algn="l" pos="10875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812080" y="4446720"/>
              <a:ext cx="1270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0960" bIns="30960" anchor="t">
              <a:spAutoFit/>
            </a:bodyPr>
            <a:p>
              <a:pPr>
                <a:tabLst>
                  <a:tab algn="l" pos="0"/>
                  <a:tab algn="l" pos="639720"/>
                  <a:tab algn="l" pos="1279440"/>
                  <a:tab algn="l" pos="1919160"/>
                  <a:tab algn="l" pos="2558880"/>
                  <a:tab algn="l" pos="3198960"/>
                  <a:tab algn="l" pos="3838680"/>
                  <a:tab algn="l" pos="4478400"/>
                  <a:tab algn="l" pos="5118120"/>
                  <a:tab algn="l" pos="5757840"/>
                  <a:tab algn="l" pos="6397560"/>
                  <a:tab algn="l" pos="7037280"/>
                  <a:tab algn="l" pos="7677000"/>
                  <a:tab algn="l" pos="8317080"/>
                  <a:tab algn="l" pos="8956800"/>
                  <a:tab algn="l" pos="9596520"/>
                  <a:tab algn="l" pos="10236240"/>
                  <a:tab algn="l" pos="10875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8615520" y="4195800"/>
            <a:ext cx="1440" cy="23184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0"/>
                </a:moveTo>
                <a:lnTo>
                  <a:pt x="0" y="19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7732800" y="3467160"/>
            <a:ext cx="609480" cy="545760"/>
            <a:chOff x="7732800" y="3467160"/>
            <a:chExt cx="609480" cy="545760"/>
          </a:xfrm>
        </p:grpSpPr>
        <p:sp>
          <p:nvSpPr>
            <p:cNvPr id="297" name=""/>
            <p:cNvSpPr/>
            <p:nvPr/>
          </p:nvSpPr>
          <p:spPr>
            <a:xfrm>
              <a:off x="7732800" y="3669480"/>
              <a:ext cx="609480" cy="343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037360" y="34671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811640" y="3703320"/>
              <a:ext cx="457920" cy="262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080" rIns="64080" tIns="32040" bIns="320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FSC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8315280" y="3681360"/>
            <a:ext cx="1270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080" rIns="64080" tIns="32040" bIns="32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7785000" y="4446720"/>
            <a:ext cx="544320" cy="372960"/>
            <a:chOff x="7785000" y="4446720"/>
            <a:chExt cx="544320" cy="372960"/>
          </a:xfrm>
        </p:grpSpPr>
        <p:sp>
          <p:nvSpPr>
            <p:cNvPr id="302" name=""/>
            <p:cNvSpPr/>
            <p:nvPr/>
          </p:nvSpPr>
          <p:spPr>
            <a:xfrm>
              <a:off x="8151480" y="4446720"/>
              <a:ext cx="139680" cy="1983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0960" bIns="30960" anchor="t">
              <a:spAutoFit/>
            </a:bodyPr>
            <a:p>
              <a:pPr>
                <a:tabLst>
                  <a:tab algn="l" pos="0"/>
                  <a:tab algn="l" pos="639720"/>
                  <a:tab algn="l" pos="1279440"/>
                  <a:tab algn="l" pos="1919160"/>
                  <a:tab algn="l" pos="2558880"/>
                  <a:tab algn="l" pos="3198960"/>
                  <a:tab algn="l" pos="3838680"/>
                  <a:tab algn="l" pos="4478400"/>
                  <a:tab algn="l" pos="5118120"/>
                  <a:tab algn="l" pos="5757840"/>
                  <a:tab algn="l" pos="6397560"/>
                  <a:tab algn="l" pos="7037280"/>
                  <a:tab algn="l" pos="7677000"/>
                  <a:tab algn="l" pos="8317080"/>
                  <a:tab algn="l" pos="8956800"/>
                  <a:tab algn="l" pos="9596520"/>
                  <a:tab algn="l" pos="10236240"/>
                  <a:tab algn="l" pos="10875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830720" y="4452840"/>
              <a:ext cx="446400" cy="3398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85000" y="4452840"/>
              <a:ext cx="544320" cy="3668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30960" bIns="30960" anchor="t">
              <a:spAutoFit/>
            </a:bodyPr>
            <a:p>
              <a:pPr algn="ctr">
                <a:tabLst>
                  <a:tab algn="l" pos="0"/>
                  <a:tab algn="l" pos="639720"/>
                  <a:tab algn="l" pos="1279440"/>
                  <a:tab algn="l" pos="1919160"/>
                  <a:tab algn="l" pos="2558880"/>
                  <a:tab algn="l" pos="3198960"/>
                  <a:tab algn="l" pos="3838680"/>
                  <a:tab algn="l" pos="4478400"/>
                  <a:tab algn="l" pos="5118120"/>
                  <a:tab algn="l" pos="5757840"/>
                  <a:tab algn="l" pos="6397560"/>
                  <a:tab algn="l" pos="7037280"/>
                  <a:tab algn="l" pos="7677000"/>
                  <a:tab algn="l" pos="8317080"/>
                  <a:tab algn="l" pos="8956800"/>
                  <a:tab algn="l" pos="9596520"/>
                  <a:tab algn="l" pos="10236240"/>
                  <a:tab algn="l" pos="10875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S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39720"/>
                  <a:tab algn="l" pos="1279440"/>
                  <a:tab algn="l" pos="1919160"/>
                  <a:tab algn="l" pos="2558880"/>
                  <a:tab algn="l" pos="3198960"/>
                  <a:tab algn="l" pos="3838680"/>
                  <a:tab algn="l" pos="4478400"/>
                  <a:tab algn="l" pos="5118120"/>
                  <a:tab algn="l" pos="5757840"/>
                  <a:tab algn="l" pos="6397560"/>
                  <a:tab algn="l" pos="7037280"/>
                  <a:tab algn="l" pos="7677000"/>
                  <a:tab algn="l" pos="8317080"/>
                  <a:tab algn="l" pos="8956800"/>
                  <a:tab algn="l" pos="9596520"/>
                  <a:tab algn="l" pos="10236240"/>
                  <a:tab algn="l" pos="10875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7213680" y="4397400"/>
            <a:ext cx="544320" cy="390240"/>
            <a:chOff x="7213680" y="4397400"/>
            <a:chExt cx="544320" cy="390240"/>
          </a:xfrm>
        </p:grpSpPr>
        <p:sp>
          <p:nvSpPr>
            <p:cNvPr id="306" name=""/>
            <p:cNvSpPr/>
            <p:nvPr/>
          </p:nvSpPr>
          <p:spPr>
            <a:xfrm>
              <a:off x="7562520" y="4397400"/>
              <a:ext cx="1267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0960" bIns="30960" anchor="t">
              <a:spAutoFit/>
            </a:bodyPr>
            <a:p>
              <a:pPr>
                <a:tabLst>
                  <a:tab algn="l" pos="0"/>
                  <a:tab algn="l" pos="639720"/>
                  <a:tab algn="l" pos="1279440"/>
                  <a:tab algn="l" pos="1919160"/>
                  <a:tab algn="l" pos="2558880"/>
                  <a:tab algn="l" pos="3198960"/>
                  <a:tab algn="l" pos="3838680"/>
                  <a:tab algn="l" pos="4478400"/>
                  <a:tab algn="l" pos="5118120"/>
                  <a:tab algn="l" pos="5757840"/>
                  <a:tab algn="l" pos="6397560"/>
                  <a:tab algn="l" pos="7037280"/>
                  <a:tab algn="l" pos="7677000"/>
                  <a:tab algn="l" pos="8317080"/>
                  <a:tab algn="l" pos="8956800"/>
                  <a:tab algn="l" pos="9596520"/>
                  <a:tab algn="l" pos="10236240"/>
                  <a:tab algn="l" pos="10875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586640" y="4441680"/>
              <a:ext cx="12636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0960" bIns="30960" anchor="t">
              <a:spAutoFit/>
            </a:bodyPr>
            <a:p>
              <a:pPr>
                <a:tabLst>
                  <a:tab algn="l" pos="0"/>
                  <a:tab algn="l" pos="639720"/>
                  <a:tab algn="l" pos="1279440"/>
                  <a:tab algn="l" pos="1919160"/>
                  <a:tab algn="l" pos="2558880"/>
                  <a:tab algn="l" pos="3198960"/>
                  <a:tab algn="l" pos="3838680"/>
                  <a:tab algn="l" pos="4478400"/>
                  <a:tab algn="l" pos="5118120"/>
                  <a:tab algn="l" pos="5757840"/>
                  <a:tab algn="l" pos="6397560"/>
                  <a:tab algn="l" pos="7037280"/>
                  <a:tab algn="l" pos="7677000"/>
                  <a:tab algn="l" pos="8317080"/>
                  <a:tab algn="l" pos="8956800"/>
                  <a:tab algn="l" pos="9596520"/>
                  <a:tab algn="l" pos="10236240"/>
                  <a:tab algn="l" pos="10875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259400" y="4448160"/>
              <a:ext cx="44568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213680" y="4505040"/>
              <a:ext cx="5443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30960" bIns="30960" anchor="t">
              <a:spAutoFit/>
            </a:bodyPr>
            <a:p>
              <a:pPr algn="ctr">
                <a:tabLst>
                  <a:tab algn="l" pos="0"/>
                  <a:tab algn="l" pos="639720"/>
                  <a:tab algn="l" pos="1279440"/>
                  <a:tab algn="l" pos="1919160"/>
                  <a:tab algn="l" pos="2558880"/>
                  <a:tab algn="l" pos="3198960"/>
                  <a:tab algn="l" pos="3838680"/>
                  <a:tab algn="l" pos="4478400"/>
                  <a:tab algn="l" pos="5118120"/>
                  <a:tab algn="l" pos="5757840"/>
                  <a:tab algn="l" pos="6397560"/>
                  <a:tab algn="l" pos="7037280"/>
                  <a:tab algn="l" pos="7677000"/>
                  <a:tab algn="l" pos="8317080"/>
                  <a:tab algn="l" pos="8956800"/>
                  <a:tab algn="l" pos="9596520"/>
                  <a:tab algn="l" pos="10236240"/>
                  <a:tab algn="l" pos="10875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Q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4148280" y="1676520"/>
            <a:ext cx="914400" cy="780480"/>
            <a:chOff x="4148280" y="1676520"/>
            <a:chExt cx="914400" cy="780480"/>
          </a:xfrm>
        </p:grpSpPr>
        <p:sp>
          <p:nvSpPr>
            <p:cNvPr id="311" name=""/>
            <p:cNvSpPr/>
            <p:nvPr/>
          </p:nvSpPr>
          <p:spPr>
            <a:xfrm>
              <a:off x="4453200" y="1676520"/>
              <a:ext cx="319320" cy="3351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148280" y="2000160"/>
              <a:ext cx="914400" cy="456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254840" y="2057400"/>
              <a:ext cx="685800" cy="3682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3733920" y="3048120"/>
            <a:ext cx="914400" cy="368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965160" y="4502160"/>
            <a:ext cx="544680" cy="3668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30960" bIns="30960" anchor="t">
            <a:spAutoFit/>
          </a:bodyPr>
          <a:p>
            <a:pPr algn="ctr"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H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212840" y="4286160"/>
            <a:ext cx="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837560" y="5105520"/>
            <a:ext cx="544320" cy="3668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30960" bIns="30960" anchor="t">
            <a:spAutoFit/>
          </a:bodyPr>
          <a:p>
            <a:pPr algn="ctr"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H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5105520"/>
            <a:ext cx="544680" cy="3668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30960" bIns="30960" anchor="t">
            <a:spAutoFit/>
          </a:bodyPr>
          <a:p>
            <a:pPr algn="ctr"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H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962520" y="5105520"/>
            <a:ext cx="544320" cy="3668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30960" bIns="30960" anchor="t">
            <a:spAutoFit/>
          </a:bodyPr>
          <a:p>
            <a:pPr algn="ctr"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H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5556240" y="2786040"/>
            <a:ext cx="1143000" cy="691920"/>
            <a:chOff x="5556240" y="2786040"/>
            <a:chExt cx="1143000" cy="691920"/>
          </a:xfrm>
        </p:grpSpPr>
        <p:sp>
          <p:nvSpPr>
            <p:cNvPr id="321" name=""/>
            <p:cNvSpPr/>
            <p:nvPr/>
          </p:nvSpPr>
          <p:spPr>
            <a:xfrm>
              <a:off x="5676840" y="3020760"/>
              <a:ext cx="914400" cy="4572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6078600" y="2786040"/>
              <a:ext cx="61920" cy="152280"/>
              <a:chOff x="6078600" y="2786040"/>
              <a:chExt cx="61920" cy="152280"/>
            </a:xfrm>
          </p:grpSpPr>
          <p:sp>
            <p:nvSpPr>
              <p:cNvPr id="323" name=""/>
              <p:cNvSpPr/>
              <p:nvPr/>
            </p:nvSpPr>
            <p:spPr>
              <a:xfrm>
                <a:off x="6140520" y="278604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078600" y="278604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5645160" y="2984400"/>
              <a:ext cx="914400" cy="45720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556240" y="304776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N B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609480" y="62485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O A    FMI 4-90.1    Slide 15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3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9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57200" y="1066680"/>
            <a:ext cx="8229600" cy="14191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Who is NOT an ammunition manager on the modular battlefield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munition Transfer Holding Point (ATHP) Ammunition Offi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SB Support Operations Offi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M DMMC Ammunition Branch Offi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sion Ammunition Offi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0880" y="3200400"/>
            <a:ext cx="8305920" cy="27237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Use one of the following terms to fill in the blank line in the definition belo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al Configured Load (OC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led Supply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 Supply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ineer Operational Configured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 is the quantity of ammunition that a maneuver commander estimates will be needed to sustain operations without ammunition expenditure restrictions over a specific time peri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57200" y="3657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" y="2514600"/>
            <a:ext cx="8229600" cy="642600"/>
          </a:xfrm>
          <a:prstGeom prst="rect">
            <a:avLst/>
          </a:prstGeom>
          <a:solidFill>
            <a:srgbClr val="d3ebed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 C.  DISCOM DMMC Ammunition Branch Officer                             ELO D            Slide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0880" y="5867280"/>
            <a:ext cx="8305920" cy="368280"/>
          </a:xfrm>
          <a:prstGeom prst="rect">
            <a:avLst/>
          </a:prstGeom>
          <a:solidFill>
            <a:srgbClr val="d3ebed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  Required Supply Rate                     ELO F    FM 4-30.1       Slide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467480" y="6415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3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3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3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3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30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20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0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7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90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10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30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5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33520" y="99072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How would you draw arrows to depict Class V distribution from the Corps sustainment ba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1789200"/>
            <a:ext cx="14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r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668840" y="2328840"/>
            <a:ext cx="135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7174800" y="4039920"/>
            <a:ext cx="2937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rot="5400000">
            <a:off x="4734360" y="2873880"/>
            <a:ext cx="3589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996160" y="4562640"/>
            <a:ext cx="6015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5400000">
            <a:off x="1398600" y="1828800"/>
            <a:ext cx="1892160" cy="170496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66ff99"/>
              </a:gs>
              <a:gs pos="100000">
                <a:srgbClr val="333399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5400000">
            <a:off x="1933560" y="2503440"/>
            <a:ext cx="48888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313240" y="3121200"/>
            <a:ext cx="435240" cy="1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rot="1171200">
            <a:off x="4473360" y="2815920"/>
            <a:ext cx="1380960" cy="119376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66ff99"/>
              </a:gs>
              <a:gs pos="100000">
                <a:srgbClr val="333399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4686480" y="2614680"/>
            <a:ext cx="552240" cy="512280"/>
            <a:chOff x="4686480" y="2614680"/>
            <a:chExt cx="552240" cy="512280"/>
          </a:xfrm>
        </p:grpSpPr>
        <p:sp>
          <p:nvSpPr>
            <p:cNvPr id="349" name=""/>
            <p:cNvSpPr/>
            <p:nvPr/>
          </p:nvSpPr>
          <p:spPr>
            <a:xfrm>
              <a:off x="4686480" y="2841840"/>
              <a:ext cx="552240" cy="2851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700880" y="2912400"/>
              <a:ext cx="5227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830120" y="26146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 rot="1401600">
            <a:off x="7360920" y="4511160"/>
            <a:ext cx="947520" cy="11430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66ff99"/>
              </a:gs>
              <a:gs pos="100000">
                <a:srgbClr val="333399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54240" y="5904000"/>
            <a:ext cx="43524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7640640" y="4554360"/>
            <a:ext cx="550800" cy="446040"/>
            <a:chOff x="7640640" y="4554360"/>
            <a:chExt cx="550800" cy="446040"/>
          </a:xfrm>
        </p:grpSpPr>
        <p:sp>
          <p:nvSpPr>
            <p:cNvPr id="355" name=""/>
            <p:cNvSpPr/>
            <p:nvPr/>
          </p:nvSpPr>
          <p:spPr>
            <a:xfrm>
              <a:off x="7640640" y="4730040"/>
              <a:ext cx="550800" cy="27036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754040" y="4797720"/>
              <a:ext cx="32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S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91840" y="45543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6203880" y="5499000"/>
            <a:ext cx="398520" cy="352080"/>
            <a:chOff x="6203880" y="5499000"/>
            <a:chExt cx="398520" cy="352080"/>
          </a:xfrm>
        </p:grpSpPr>
        <p:sp>
          <p:nvSpPr>
            <p:cNvPr id="359" name=""/>
            <p:cNvSpPr/>
            <p:nvPr/>
          </p:nvSpPr>
          <p:spPr>
            <a:xfrm>
              <a:off x="6301440" y="5499000"/>
              <a:ext cx="21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203880" y="5629680"/>
              <a:ext cx="398520" cy="2214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75160" y="56736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S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1941480" y="2166840"/>
            <a:ext cx="52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017800" y="1600200"/>
            <a:ext cx="34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17720" y="1762200"/>
            <a:ext cx="552600" cy="26964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5537160" y="5181480"/>
            <a:ext cx="639720" cy="434880"/>
            <a:chOff x="5537160" y="5181480"/>
            <a:chExt cx="639720" cy="434880"/>
          </a:xfrm>
        </p:grpSpPr>
        <p:sp>
          <p:nvSpPr>
            <p:cNvPr id="366" name=""/>
            <p:cNvSpPr/>
            <p:nvPr/>
          </p:nvSpPr>
          <p:spPr>
            <a:xfrm>
              <a:off x="5724360" y="5181480"/>
              <a:ext cx="2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5537160" y="5317200"/>
              <a:ext cx="639720" cy="299160"/>
              <a:chOff x="5537160" y="5317200"/>
              <a:chExt cx="639720" cy="299160"/>
            </a:xfrm>
          </p:grpSpPr>
          <p:sp>
            <p:nvSpPr>
              <p:cNvPr id="368" name=""/>
              <p:cNvSpPr/>
              <p:nvPr/>
            </p:nvSpPr>
            <p:spPr>
              <a:xfrm>
                <a:off x="5537160" y="5317200"/>
                <a:ext cx="639720" cy="299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669280" y="5398560"/>
                <a:ext cx="375480" cy="1357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725080" y="5425200"/>
                <a:ext cx="263880" cy="81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5725080" y="5425200"/>
                <a:ext cx="263880" cy="81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2" name=""/>
          <p:cNvGrpSpPr/>
          <p:nvPr/>
        </p:nvGrpSpPr>
        <p:grpSpPr>
          <a:xfrm>
            <a:off x="1776240" y="2004840"/>
            <a:ext cx="552600" cy="514080"/>
            <a:chOff x="1776240" y="2004840"/>
            <a:chExt cx="552600" cy="514080"/>
          </a:xfrm>
        </p:grpSpPr>
        <p:sp>
          <p:nvSpPr>
            <p:cNvPr id="373" name=""/>
            <p:cNvSpPr/>
            <p:nvPr/>
          </p:nvSpPr>
          <p:spPr>
            <a:xfrm>
              <a:off x="1776240" y="2233080"/>
              <a:ext cx="552600" cy="28584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90640" y="2305080"/>
              <a:ext cx="52308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920240" y="20048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2698920" y="2884320"/>
            <a:ext cx="933840" cy="535680"/>
            <a:chOff x="2698920" y="2884320"/>
            <a:chExt cx="933840" cy="535680"/>
          </a:xfrm>
        </p:grpSpPr>
        <p:sp>
          <p:nvSpPr>
            <p:cNvPr id="377" name=""/>
            <p:cNvSpPr/>
            <p:nvPr/>
          </p:nvSpPr>
          <p:spPr>
            <a:xfrm>
              <a:off x="2698920" y="2884320"/>
              <a:ext cx="354960" cy="27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970360" y="305172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2911680" y="3019320"/>
              <a:ext cx="141840" cy="13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6461280" y="5791320"/>
            <a:ext cx="1861200" cy="535680"/>
            <a:chOff x="6461280" y="5791320"/>
            <a:chExt cx="1861200" cy="535680"/>
          </a:xfrm>
        </p:grpSpPr>
        <p:sp>
          <p:nvSpPr>
            <p:cNvPr id="381" name=""/>
            <p:cNvSpPr/>
            <p:nvPr/>
          </p:nvSpPr>
          <p:spPr>
            <a:xfrm>
              <a:off x="6461280" y="5791320"/>
              <a:ext cx="354240" cy="270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730560" y="5958720"/>
              <a:ext cx="159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 V Se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 flipV="1">
              <a:off x="6673680" y="5925600"/>
              <a:ext cx="14148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5467320" y="3627360"/>
            <a:ext cx="920520" cy="535680"/>
            <a:chOff x="5467320" y="3627360"/>
            <a:chExt cx="920520" cy="535680"/>
          </a:xfrm>
        </p:grpSpPr>
        <p:sp>
          <p:nvSpPr>
            <p:cNvPr id="385" name=""/>
            <p:cNvSpPr/>
            <p:nvPr/>
          </p:nvSpPr>
          <p:spPr>
            <a:xfrm>
              <a:off x="5467320" y="3627360"/>
              <a:ext cx="354240" cy="27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737680" y="37947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flipV="1">
              <a:off x="5679720" y="3762360"/>
              <a:ext cx="141480" cy="13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5111640" y="3087720"/>
            <a:ext cx="1206720" cy="775440"/>
            <a:chOff x="5111640" y="3087720"/>
            <a:chExt cx="1206720" cy="775440"/>
          </a:xfrm>
        </p:grpSpPr>
        <p:grpSp>
          <p:nvGrpSpPr>
            <p:cNvPr id="389" name=""/>
            <p:cNvGrpSpPr/>
            <p:nvPr/>
          </p:nvGrpSpPr>
          <p:grpSpPr>
            <a:xfrm>
              <a:off x="5111640" y="3087720"/>
              <a:ext cx="1206720" cy="775440"/>
              <a:chOff x="5111640" y="3087720"/>
              <a:chExt cx="1206720" cy="775440"/>
            </a:xfrm>
          </p:grpSpPr>
          <p:sp>
            <p:nvSpPr>
              <p:cNvPr id="390" name=""/>
              <p:cNvSpPr/>
              <p:nvPr/>
            </p:nvSpPr>
            <p:spPr>
              <a:xfrm>
                <a:off x="5111640" y="3190680"/>
                <a:ext cx="649080" cy="347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1" name=""/>
              <p:cNvGrpSpPr/>
              <p:nvPr/>
            </p:nvGrpSpPr>
            <p:grpSpPr>
              <a:xfrm>
                <a:off x="5338800" y="3087720"/>
                <a:ext cx="194760" cy="346680"/>
                <a:chOff x="5338800" y="3087720"/>
                <a:chExt cx="194760" cy="346680"/>
              </a:xfrm>
            </p:grpSpPr>
            <p:grpSp>
              <p:nvGrpSpPr>
                <p:cNvPr id="392" name=""/>
                <p:cNvGrpSpPr/>
                <p:nvPr/>
              </p:nvGrpSpPr>
              <p:grpSpPr>
                <a:xfrm>
                  <a:off x="5338800" y="3231000"/>
                  <a:ext cx="194760" cy="203400"/>
                  <a:chOff x="5338800" y="3231000"/>
                  <a:chExt cx="194760" cy="20340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>
                    <a:off x="5378040" y="3231000"/>
                    <a:ext cx="115920" cy="75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5338800" y="3434400"/>
                    <a:ext cx="194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5378040" y="3282480"/>
                    <a:ext cx="115920" cy="500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5378040" y="3282480"/>
                    <a:ext cx="0" cy="151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5494320" y="3282480"/>
                    <a:ext cx="0" cy="151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8" name=""/>
                <p:cNvSpPr/>
                <p:nvPr/>
              </p:nvSpPr>
              <p:spPr>
                <a:xfrm>
                  <a:off x="5436360" y="3087720"/>
                  <a:ext cx="0" cy="102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9" name=""/>
              <p:cNvSpPr/>
              <p:nvPr/>
            </p:nvSpPr>
            <p:spPr>
              <a:xfrm>
                <a:off x="5759640" y="3342960"/>
                <a:ext cx="5587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O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5111640" y="3447720"/>
              <a:ext cx="64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1776240" y="2546280"/>
            <a:ext cx="1114920" cy="574920"/>
            <a:chOff x="1776240" y="2546280"/>
            <a:chExt cx="1114920" cy="574920"/>
          </a:xfrm>
        </p:grpSpPr>
        <p:sp>
          <p:nvSpPr>
            <p:cNvPr id="402" name=""/>
            <p:cNvSpPr/>
            <p:nvPr/>
          </p:nvSpPr>
          <p:spPr>
            <a:xfrm>
              <a:off x="1776240" y="2835360"/>
              <a:ext cx="39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1776240" y="2546280"/>
              <a:ext cx="1114920" cy="574920"/>
              <a:chOff x="1776240" y="2546280"/>
              <a:chExt cx="1114920" cy="574920"/>
            </a:xfrm>
          </p:grpSpPr>
          <p:sp>
            <p:nvSpPr>
              <p:cNvPr id="404" name=""/>
              <p:cNvSpPr/>
              <p:nvPr/>
            </p:nvSpPr>
            <p:spPr>
              <a:xfrm>
                <a:off x="1776240" y="2628720"/>
                <a:ext cx="397800" cy="278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5" name=""/>
              <p:cNvGrpSpPr/>
              <p:nvPr/>
            </p:nvGrpSpPr>
            <p:grpSpPr>
              <a:xfrm>
                <a:off x="1915560" y="2546280"/>
                <a:ext cx="119160" cy="278640"/>
                <a:chOff x="1915560" y="2546280"/>
                <a:chExt cx="119160" cy="278640"/>
              </a:xfrm>
            </p:grpSpPr>
            <p:grpSp>
              <p:nvGrpSpPr>
                <p:cNvPr id="406" name=""/>
                <p:cNvGrpSpPr/>
                <p:nvPr/>
              </p:nvGrpSpPr>
              <p:grpSpPr>
                <a:xfrm>
                  <a:off x="1915560" y="2661480"/>
                  <a:ext cx="119160" cy="163440"/>
                  <a:chOff x="1915560" y="2661480"/>
                  <a:chExt cx="119160" cy="163440"/>
                </a:xfrm>
              </p:grpSpPr>
              <p:sp>
                <p:nvSpPr>
                  <p:cNvPr id="407" name=""/>
                  <p:cNvSpPr/>
                  <p:nvPr/>
                </p:nvSpPr>
                <p:spPr>
                  <a:xfrm>
                    <a:off x="1939320" y="2661480"/>
                    <a:ext cx="70920" cy="60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" bIns="-3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1915560" y="2824920"/>
                    <a:ext cx="119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1939320" y="2702520"/>
                    <a:ext cx="70920" cy="40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480" bIns="-64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1939320" y="2702520"/>
                    <a:ext cx="0" cy="122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2010600" y="2702520"/>
                    <a:ext cx="0" cy="122040"/>
                  </a:xfrm>
                  <a:prstGeom prst="line">
                    <a:avLst/>
                  </a:prstGeom>
                  <a:ln w="1260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2" name=""/>
                <p:cNvSpPr/>
                <p:nvPr/>
              </p:nvSpPr>
              <p:spPr>
                <a:xfrm>
                  <a:off x="1975320" y="2546280"/>
                  <a:ext cx="0" cy="82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3" name=""/>
              <p:cNvSpPr/>
              <p:nvPr/>
            </p:nvSpPr>
            <p:spPr>
              <a:xfrm>
                <a:off x="2176920" y="2752920"/>
                <a:ext cx="71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4" name=""/>
          <p:cNvSpPr/>
          <p:nvPr/>
        </p:nvSpPr>
        <p:spPr>
          <a:xfrm>
            <a:off x="6172200" y="64008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heck your 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33520" y="99072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How would you draw arrows to depict Class V distribution from the Corps sustainment ba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57200" y="1789200"/>
            <a:ext cx="148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r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668840" y="23288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5400000">
            <a:off x="7174800" y="4039920"/>
            <a:ext cx="2937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rot="5400000">
            <a:off x="4734360" y="2873880"/>
            <a:ext cx="3589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996160" y="4562640"/>
            <a:ext cx="6015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rot="5400000">
            <a:off x="1398600" y="1828800"/>
            <a:ext cx="1892160" cy="170496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66ff99"/>
              </a:gs>
              <a:gs pos="100000">
                <a:srgbClr val="333399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rot="5400000">
            <a:off x="1933560" y="2503440"/>
            <a:ext cx="48888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871160" y="2854800"/>
            <a:ext cx="2681640" cy="2732760"/>
            <a:chOff x="4871160" y="2854800"/>
            <a:chExt cx="2681640" cy="2732760"/>
          </a:xfrm>
        </p:grpSpPr>
        <p:sp>
          <p:nvSpPr>
            <p:cNvPr id="426" name=""/>
            <p:cNvSpPr/>
            <p:nvPr/>
          </p:nvSpPr>
          <p:spPr>
            <a:xfrm flipV="1" rot="2759400">
              <a:off x="4947480" y="3594960"/>
              <a:ext cx="2567520" cy="1194840"/>
            </a:xfrm>
            <a:custGeom>
              <a:avLst/>
              <a:gdLst/>
              <a:ahLst/>
              <a:rect l="l" t="t" r="r" b="b"/>
              <a:pathLst>
                <a:path w="1974" h="565">
                  <a:moveTo>
                    <a:pt x="0" y="176"/>
                  </a:moveTo>
                  <a:lnTo>
                    <a:pt x="26" y="127"/>
                  </a:lnTo>
                  <a:lnTo>
                    <a:pt x="75" y="105"/>
                  </a:lnTo>
                  <a:lnTo>
                    <a:pt x="115" y="87"/>
                  </a:lnTo>
                  <a:lnTo>
                    <a:pt x="168" y="69"/>
                  </a:lnTo>
                  <a:lnTo>
                    <a:pt x="233" y="51"/>
                  </a:lnTo>
                  <a:lnTo>
                    <a:pt x="285" y="44"/>
                  </a:lnTo>
                  <a:lnTo>
                    <a:pt x="360" y="29"/>
                  </a:lnTo>
                  <a:lnTo>
                    <a:pt x="435" y="17"/>
                  </a:lnTo>
                  <a:lnTo>
                    <a:pt x="507" y="9"/>
                  </a:lnTo>
                  <a:lnTo>
                    <a:pt x="599" y="2"/>
                  </a:lnTo>
                  <a:lnTo>
                    <a:pt x="667" y="0"/>
                  </a:lnTo>
                  <a:lnTo>
                    <a:pt x="760" y="3"/>
                  </a:lnTo>
                  <a:lnTo>
                    <a:pt x="864" y="6"/>
                  </a:lnTo>
                  <a:lnTo>
                    <a:pt x="966" y="13"/>
                  </a:lnTo>
                  <a:lnTo>
                    <a:pt x="1042" y="21"/>
                  </a:lnTo>
                  <a:lnTo>
                    <a:pt x="1146" y="42"/>
                  </a:lnTo>
                  <a:lnTo>
                    <a:pt x="1232" y="64"/>
                  </a:lnTo>
                  <a:lnTo>
                    <a:pt x="1319" y="92"/>
                  </a:lnTo>
                  <a:lnTo>
                    <a:pt x="1409" y="124"/>
                  </a:lnTo>
                  <a:lnTo>
                    <a:pt x="1460" y="148"/>
                  </a:lnTo>
                  <a:lnTo>
                    <a:pt x="1519" y="181"/>
                  </a:lnTo>
                  <a:lnTo>
                    <a:pt x="1562" y="208"/>
                  </a:lnTo>
                  <a:lnTo>
                    <a:pt x="1605" y="235"/>
                  </a:lnTo>
                  <a:lnTo>
                    <a:pt x="1636" y="260"/>
                  </a:lnTo>
                  <a:lnTo>
                    <a:pt x="1726" y="90"/>
                  </a:lnTo>
                  <a:lnTo>
                    <a:pt x="1747" y="156"/>
                  </a:lnTo>
                  <a:lnTo>
                    <a:pt x="1777" y="235"/>
                  </a:lnTo>
                  <a:lnTo>
                    <a:pt x="1811" y="314"/>
                  </a:lnTo>
                  <a:lnTo>
                    <a:pt x="1856" y="396"/>
                  </a:lnTo>
                  <a:lnTo>
                    <a:pt x="1894" y="449"/>
                  </a:lnTo>
                  <a:lnTo>
                    <a:pt x="1974" y="524"/>
                  </a:lnTo>
                  <a:lnTo>
                    <a:pt x="1954" y="561"/>
                  </a:lnTo>
                  <a:lnTo>
                    <a:pt x="1865" y="547"/>
                  </a:lnTo>
                  <a:lnTo>
                    <a:pt x="1770" y="534"/>
                  </a:lnTo>
                  <a:lnTo>
                    <a:pt x="1668" y="533"/>
                  </a:lnTo>
                  <a:lnTo>
                    <a:pt x="1585" y="540"/>
                  </a:lnTo>
                  <a:lnTo>
                    <a:pt x="1533" y="545"/>
                  </a:lnTo>
                  <a:lnTo>
                    <a:pt x="1472" y="565"/>
                  </a:lnTo>
                  <a:lnTo>
                    <a:pt x="1547" y="421"/>
                  </a:lnTo>
                  <a:lnTo>
                    <a:pt x="1476" y="373"/>
                  </a:lnTo>
                  <a:lnTo>
                    <a:pt x="1408" y="333"/>
                  </a:lnTo>
                  <a:lnTo>
                    <a:pt x="1326" y="296"/>
                  </a:lnTo>
                  <a:lnTo>
                    <a:pt x="1243" y="262"/>
                  </a:lnTo>
                  <a:lnTo>
                    <a:pt x="1145" y="229"/>
                  </a:lnTo>
                  <a:lnTo>
                    <a:pt x="1056" y="202"/>
                  </a:lnTo>
                  <a:lnTo>
                    <a:pt x="928" y="170"/>
                  </a:lnTo>
                  <a:lnTo>
                    <a:pt x="820" y="148"/>
                  </a:lnTo>
                  <a:lnTo>
                    <a:pt x="722" y="135"/>
                  </a:lnTo>
                  <a:lnTo>
                    <a:pt x="615" y="125"/>
                  </a:lnTo>
                  <a:lnTo>
                    <a:pt x="566" y="121"/>
                  </a:lnTo>
                  <a:lnTo>
                    <a:pt x="518" y="116"/>
                  </a:lnTo>
                  <a:lnTo>
                    <a:pt x="477" y="115"/>
                  </a:lnTo>
                  <a:lnTo>
                    <a:pt x="438" y="115"/>
                  </a:lnTo>
                  <a:lnTo>
                    <a:pt x="364" y="114"/>
                  </a:lnTo>
                  <a:lnTo>
                    <a:pt x="313" y="117"/>
                  </a:lnTo>
                  <a:lnTo>
                    <a:pt x="271" y="120"/>
                  </a:lnTo>
                  <a:lnTo>
                    <a:pt x="231" y="124"/>
                  </a:lnTo>
                  <a:lnTo>
                    <a:pt x="193" y="130"/>
                  </a:lnTo>
                  <a:lnTo>
                    <a:pt x="158" y="135"/>
                  </a:lnTo>
                  <a:lnTo>
                    <a:pt x="119" y="141"/>
                  </a:lnTo>
                  <a:lnTo>
                    <a:pt x="78" y="153"/>
                  </a:lnTo>
                  <a:lnTo>
                    <a:pt x="36" y="163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4871160" y="2935080"/>
              <a:ext cx="2619720" cy="2652480"/>
              <a:chOff x="4871160" y="2935080"/>
              <a:chExt cx="2619720" cy="2652480"/>
            </a:xfrm>
          </p:grpSpPr>
          <p:sp>
            <p:nvSpPr>
              <p:cNvPr id="428" name=""/>
              <p:cNvSpPr/>
              <p:nvPr/>
            </p:nvSpPr>
            <p:spPr>
              <a:xfrm flipV="1" rot="2759400">
                <a:off x="4912920" y="3664800"/>
                <a:ext cx="2535840" cy="1192680"/>
              </a:xfrm>
              <a:custGeom>
                <a:avLst/>
                <a:gdLst/>
                <a:ahLst/>
                <a:rect l="l" t="t" r="r" b="b"/>
                <a:pathLst>
                  <a:path w="1950" h="564">
                    <a:moveTo>
                      <a:pt x="0" y="168"/>
                    </a:moveTo>
                    <a:lnTo>
                      <a:pt x="45" y="138"/>
                    </a:lnTo>
                    <a:lnTo>
                      <a:pt x="83" y="116"/>
                    </a:lnTo>
                    <a:lnTo>
                      <a:pt x="119" y="99"/>
                    </a:lnTo>
                    <a:lnTo>
                      <a:pt x="162" y="81"/>
                    </a:lnTo>
                    <a:lnTo>
                      <a:pt x="223" y="57"/>
                    </a:lnTo>
                    <a:lnTo>
                      <a:pt x="285" y="40"/>
                    </a:lnTo>
                    <a:lnTo>
                      <a:pt x="359" y="27"/>
                    </a:lnTo>
                    <a:lnTo>
                      <a:pt x="433" y="15"/>
                    </a:lnTo>
                    <a:lnTo>
                      <a:pt x="505" y="8"/>
                    </a:lnTo>
                    <a:lnTo>
                      <a:pt x="597" y="2"/>
                    </a:lnTo>
                    <a:lnTo>
                      <a:pt x="665" y="0"/>
                    </a:lnTo>
                    <a:lnTo>
                      <a:pt x="757" y="4"/>
                    </a:lnTo>
                    <a:lnTo>
                      <a:pt x="861" y="8"/>
                    </a:lnTo>
                    <a:lnTo>
                      <a:pt x="963" y="16"/>
                    </a:lnTo>
                    <a:lnTo>
                      <a:pt x="1039" y="23"/>
                    </a:lnTo>
                    <a:lnTo>
                      <a:pt x="1143" y="47"/>
                    </a:lnTo>
                    <a:lnTo>
                      <a:pt x="1228" y="68"/>
                    </a:lnTo>
                    <a:lnTo>
                      <a:pt x="1315" y="96"/>
                    </a:lnTo>
                    <a:lnTo>
                      <a:pt x="1405" y="128"/>
                    </a:lnTo>
                    <a:lnTo>
                      <a:pt x="1457" y="153"/>
                    </a:lnTo>
                    <a:lnTo>
                      <a:pt x="1515" y="185"/>
                    </a:lnTo>
                    <a:lnTo>
                      <a:pt x="1559" y="212"/>
                    </a:lnTo>
                    <a:lnTo>
                      <a:pt x="1601" y="239"/>
                    </a:lnTo>
                    <a:lnTo>
                      <a:pt x="1632" y="264"/>
                    </a:lnTo>
                    <a:lnTo>
                      <a:pt x="1707" y="123"/>
                    </a:lnTo>
                    <a:lnTo>
                      <a:pt x="1731" y="192"/>
                    </a:lnTo>
                    <a:lnTo>
                      <a:pt x="1758" y="258"/>
                    </a:lnTo>
                    <a:lnTo>
                      <a:pt x="1795" y="344"/>
                    </a:lnTo>
                    <a:lnTo>
                      <a:pt x="1842" y="422"/>
                    </a:lnTo>
                    <a:lnTo>
                      <a:pt x="1887" y="489"/>
                    </a:lnTo>
                    <a:lnTo>
                      <a:pt x="1950" y="562"/>
                    </a:lnTo>
                    <a:lnTo>
                      <a:pt x="1862" y="548"/>
                    </a:lnTo>
                    <a:lnTo>
                      <a:pt x="1770" y="537"/>
                    </a:lnTo>
                    <a:lnTo>
                      <a:pt x="1668" y="533"/>
                    </a:lnTo>
                    <a:lnTo>
                      <a:pt x="1583" y="539"/>
                    </a:lnTo>
                    <a:lnTo>
                      <a:pt x="1533" y="544"/>
                    </a:lnTo>
                    <a:lnTo>
                      <a:pt x="1472" y="564"/>
                    </a:lnTo>
                    <a:lnTo>
                      <a:pt x="1547" y="422"/>
                    </a:lnTo>
                    <a:lnTo>
                      <a:pt x="1473" y="374"/>
                    </a:lnTo>
                    <a:lnTo>
                      <a:pt x="1406" y="335"/>
                    </a:lnTo>
                    <a:lnTo>
                      <a:pt x="1324" y="297"/>
                    </a:lnTo>
                    <a:lnTo>
                      <a:pt x="1241" y="262"/>
                    </a:lnTo>
                    <a:lnTo>
                      <a:pt x="1143" y="230"/>
                    </a:lnTo>
                    <a:lnTo>
                      <a:pt x="1054" y="202"/>
                    </a:lnTo>
                    <a:lnTo>
                      <a:pt x="925" y="169"/>
                    </a:lnTo>
                    <a:lnTo>
                      <a:pt x="818" y="147"/>
                    </a:lnTo>
                    <a:lnTo>
                      <a:pt x="721" y="133"/>
                    </a:lnTo>
                    <a:lnTo>
                      <a:pt x="614" y="123"/>
                    </a:lnTo>
                    <a:lnTo>
                      <a:pt x="565" y="118"/>
                    </a:lnTo>
                    <a:lnTo>
                      <a:pt x="517" y="113"/>
                    </a:lnTo>
                    <a:lnTo>
                      <a:pt x="477" y="111"/>
                    </a:lnTo>
                    <a:lnTo>
                      <a:pt x="438" y="112"/>
                    </a:lnTo>
                    <a:lnTo>
                      <a:pt x="363" y="110"/>
                    </a:lnTo>
                    <a:lnTo>
                      <a:pt x="312" y="112"/>
                    </a:lnTo>
                    <a:lnTo>
                      <a:pt x="272" y="116"/>
                    </a:lnTo>
                    <a:lnTo>
                      <a:pt x="231" y="119"/>
                    </a:lnTo>
                    <a:lnTo>
                      <a:pt x="193" y="124"/>
                    </a:lnTo>
                    <a:lnTo>
                      <a:pt x="159" y="129"/>
                    </a:lnTo>
                    <a:lnTo>
                      <a:pt x="120" y="135"/>
                    </a:lnTo>
                    <a:lnTo>
                      <a:pt x="78" y="146"/>
                    </a:lnTo>
                    <a:lnTo>
                      <a:pt x="38" y="155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 rot="2759400">
                <a:off x="4912920" y="3664800"/>
                <a:ext cx="2535840" cy="1192680"/>
              </a:xfrm>
              <a:custGeom>
                <a:avLst/>
                <a:gdLst/>
                <a:ahLst/>
                <a:rect l="l" t="t" r="r" b="b"/>
                <a:pathLst>
                  <a:path w="1950" h="564">
                    <a:moveTo>
                      <a:pt x="0" y="168"/>
                    </a:moveTo>
                    <a:lnTo>
                      <a:pt x="45" y="138"/>
                    </a:lnTo>
                    <a:lnTo>
                      <a:pt x="83" y="116"/>
                    </a:lnTo>
                    <a:lnTo>
                      <a:pt x="119" y="99"/>
                    </a:lnTo>
                    <a:lnTo>
                      <a:pt x="162" y="81"/>
                    </a:lnTo>
                    <a:lnTo>
                      <a:pt x="223" y="57"/>
                    </a:lnTo>
                    <a:lnTo>
                      <a:pt x="285" y="40"/>
                    </a:lnTo>
                    <a:lnTo>
                      <a:pt x="359" y="27"/>
                    </a:lnTo>
                    <a:lnTo>
                      <a:pt x="433" y="15"/>
                    </a:lnTo>
                    <a:lnTo>
                      <a:pt x="505" y="8"/>
                    </a:lnTo>
                    <a:lnTo>
                      <a:pt x="597" y="2"/>
                    </a:lnTo>
                    <a:lnTo>
                      <a:pt x="665" y="0"/>
                    </a:lnTo>
                    <a:lnTo>
                      <a:pt x="757" y="4"/>
                    </a:lnTo>
                    <a:lnTo>
                      <a:pt x="861" y="8"/>
                    </a:lnTo>
                    <a:lnTo>
                      <a:pt x="963" y="16"/>
                    </a:lnTo>
                    <a:lnTo>
                      <a:pt x="1039" y="23"/>
                    </a:lnTo>
                    <a:lnTo>
                      <a:pt x="1143" y="47"/>
                    </a:lnTo>
                    <a:lnTo>
                      <a:pt x="1228" y="68"/>
                    </a:lnTo>
                    <a:lnTo>
                      <a:pt x="1315" y="96"/>
                    </a:lnTo>
                    <a:lnTo>
                      <a:pt x="1405" y="128"/>
                    </a:lnTo>
                    <a:lnTo>
                      <a:pt x="1457" y="153"/>
                    </a:lnTo>
                    <a:lnTo>
                      <a:pt x="1515" y="185"/>
                    </a:lnTo>
                    <a:lnTo>
                      <a:pt x="1559" y="212"/>
                    </a:lnTo>
                    <a:lnTo>
                      <a:pt x="1601" y="239"/>
                    </a:lnTo>
                    <a:lnTo>
                      <a:pt x="1632" y="264"/>
                    </a:lnTo>
                    <a:lnTo>
                      <a:pt x="1707" y="123"/>
                    </a:lnTo>
                    <a:lnTo>
                      <a:pt x="1731" y="192"/>
                    </a:lnTo>
                    <a:lnTo>
                      <a:pt x="1758" y="258"/>
                    </a:lnTo>
                    <a:lnTo>
                      <a:pt x="1795" y="344"/>
                    </a:lnTo>
                    <a:lnTo>
                      <a:pt x="1842" y="422"/>
                    </a:lnTo>
                    <a:lnTo>
                      <a:pt x="1887" y="489"/>
                    </a:lnTo>
                    <a:lnTo>
                      <a:pt x="1950" y="562"/>
                    </a:lnTo>
                    <a:lnTo>
                      <a:pt x="1862" y="548"/>
                    </a:lnTo>
                    <a:lnTo>
                      <a:pt x="1770" y="537"/>
                    </a:lnTo>
                    <a:lnTo>
                      <a:pt x="1668" y="533"/>
                    </a:lnTo>
                    <a:lnTo>
                      <a:pt x="1583" y="539"/>
                    </a:lnTo>
                    <a:lnTo>
                      <a:pt x="1533" y="544"/>
                    </a:lnTo>
                    <a:lnTo>
                      <a:pt x="1472" y="564"/>
                    </a:lnTo>
                    <a:lnTo>
                      <a:pt x="1547" y="422"/>
                    </a:lnTo>
                    <a:lnTo>
                      <a:pt x="1473" y="374"/>
                    </a:lnTo>
                    <a:lnTo>
                      <a:pt x="1406" y="335"/>
                    </a:lnTo>
                    <a:lnTo>
                      <a:pt x="1324" y="297"/>
                    </a:lnTo>
                    <a:lnTo>
                      <a:pt x="1241" y="262"/>
                    </a:lnTo>
                    <a:lnTo>
                      <a:pt x="1143" y="230"/>
                    </a:lnTo>
                    <a:lnTo>
                      <a:pt x="1054" y="202"/>
                    </a:lnTo>
                    <a:lnTo>
                      <a:pt x="925" y="169"/>
                    </a:lnTo>
                    <a:lnTo>
                      <a:pt x="818" y="147"/>
                    </a:lnTo>
                    <a:lnTo>
                      <a:pt x="721" y="133"/>
                    </a:lnTo>
                    <a:lnTo>
                      <a:pt x="614" y="123"/>
                    </a:lnTo>
                    <a:lnTo>
                      <a:pt x="565" y="118"/>
                    </a:lnTo>
                    <a:lnTo>
                      <a:pt x="517" y="113"/>
                    </a:lnTo>
                    <a:lnTo>
                      <a:pt x="477" y="111"/>
                    </a:lnTo>
                    <a:lnTo>
                      <a:pt x="438" y="112"/>
                    </a:lnTo>
                    <a:lnTo>
                      <a:pt x="363" y="110"/>
                    </a:lnTo>
                    <a:lnTo>
                      <a:pt x="312" y="112"/>
                    </a:lnTo>
                    <a:lnTo>
                      <a:pt x="272" y="116"/>
                    </a:lnTo>
                    <a:lnTo>
                      <a:pt x="231" y="119"/>
                    </a:lnTo>
                    <a:lnTo>
                      <a:pt x="193" y="124"/>
                    </a:lnTo>
                    <a:lnTo>
                      <a:pt x="159" y="129"/>
                    </a:lnTo>
                    <a:lnTo>
                      <a:pt x="120" y="135"/>
                    </a:lnTo>
                    <a:lnTo>
                      <a:pt x="78" y="146"/>
                    </a:lnTo>
                    <a:lnTo>
                      <a:pt x="38" y="155"/>
                    </a:lnTo>
                    <a:lnTo>
                      <a:pt x="0" y="168"/>
                    </a:ln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0" name=""/>
          <p:cNvGrpSpPr/>
          <p:nvPr/>
        </p:nvGrpSpPr>
        <p:grpSpPr>
          <a:xfrm>
            <a:off x="2695680" y="2452680"/>
            <a:ext cx="1849320" cy="836640"/>
            <a:chOff x="2695680" y="2452680"/>
            <a:chExt cx="1849320" cy="836640"/>
          </a:xfrm>
        </p:grpSpPr>
        <p:sp>
          <p:nvSpPr>
            <p:cNvPr id="431" name=""/>
            <p:cNvSpPr/>
            <p:nvPr/>
          </p:nvSpPr>
          <p:spPr>
            <a:xfrm>
              <a:off x="2695680" y="2506680"/>
              <a:ext cx="1849320" cy="782640"/>
            </a:xfrm>
            <a:custGeom>
              <a:avLst/>
              <a:gdLst/>
              <a:ahLst/>
              <a:rect l="l" t="t" r="r" b="b"/>
              <a:pathLst>
                <a:path w="1974" h="565">
                  <a:moveTo>
                    <a:pt x="0" y="176"/>
                  </a:moveTo>
                  <a:lnTo>
                    <a:pt x="26" y="127"/>
                  </a:lnTo>
                  <a:lnTo>
                    <a:pt x="75" y="105"/>
                  </a:lnTo>
                  <a:lnTo>
                    <a:pt x="115" y="87"/>
                  </a:lnTo>
                  <a:lnTo>
                    <a:pt x="168" y="69"/>
                  </a:lnTo>
                  <a:lnTo>
                    <a:pt x="233" y="51"/>
                  </a:lnTo>
                  <a:lnTo>
                    <a:pt x="285" y="44"/>
                  </a:lnTo>
                  <a:lnTo>
                    <a:pt x="360" y="29"/>
                  </a:lnTo>
                  <a:lnTo>
                    <a:pt x="435" y="17"/>
                  </a:lnTo>
                  <a:lnTo>
                    <a:pt x="507" y="9"/>
                  </a:lnTo>
                  <a:lnTo>
                    <a:pt x="599" y="2"/>
                  </a:lnTo>
                  <a:lnTo>
                    <a:pt x="667" y="0"/>
                  </a:lnTo>
                  <a:lnTo>
                    <a:pt x="760" y="3"/>
                  </a:lnTo>
                  <a:lnTo>
                    <a:pt x="864" y="6"/>
                  </a:lnTo>
                  <a:lnTo>
                    <a:pt x="966" y="13"/>
                  </a:lnTo>
                  <a:lnTo>
                    <a:pt x="1042" y="21"/>
                  </a:lnTo>
                  <a:lnTo>
                    <a:pt x="1146" y="42"/>
                  </a:lnTo>
                  <a:lnTo>
                    <a:pt x="1232" y="64"/>
                  </a:lnTo>
                  <a:lnTo>
                    <a:pt x="1319" y="92"/>
                  </a:lnTo>
                  <a:lnTo>
                    <a:pt x="1409" y="124"/>
                  </a:lnTo>
                  <a:lnTo>
                    <a:pt x="1460" y="148"/>
                  </a:lnTo>
                  <a:lnTo>
                    <a:pt x="1519" y="181"/>
                  </a:lnTo>
                  <a:lnTo>
                    <a:pt x="1562" y="208"/>
                  </a:lnTo>
                  <a:lnTo>
                    <a:pt x="1605" y="235"/>
                  </a:lnTo>
                  <a:lnTo>
                    <a:pt x="1636" y="260"/>
                  </a:lnTo>
                  <a:lnTo>
                    <a:pt x="1726" y="90"/>
                  </a:lnTo>
                  <a:lnTo>
                    <a:pt x="1747" y="156"/>
                  </a:lnTo>
                  <a:lnTo>
                    <a:pt x="1777" y="235"/>
                  </a:lnTo>
                  <a:lnTo>
                    <a:pt x="1811" y="314"/>
                  </a:lnTo>
                  <a:lnTo>
                    <a:pt x="1856" y="396"/>
                  </a:lnTo>
                  <a:lnTo>
                    <a:pt x="1894" y="449"/>
                  </a:lnTo>
                  <a:lnTo>
                    <a:pt x="1974" y="524"/>
                  </a:lnTo>
                  <a:lnTo>
                    <a:pt x="1954" y="561"/>
                  </a:lnTo>
                  <a:lnTo>
                    <a:pt x="1865" y="547"/>
                  </a:lnTo>
                  <a:lnTo>
                    <a:pt x="1770" y="534"/>
                  </a:lnTo>
                  <a:lnTo>
                    <a:pt x="1668" y="533"/>
                  </a:lnTo>
                  <a:lnTo>
                    <a:pt x="1585" y="540"/>
                  </a:lnTo>
                  <a:lnTo>
                    <a:pt x="1533" y="545"/>
                  </a:lnTo>
                  <a:lnTo>
                    <a:pt x="1472" y="565"/>
                  </a:lnTo>
                  <a:lnTo>
                    <a:pt x="1547" y="421"/>
                  </a:lnTo>
                  <a:lnTo>
                    <a:pt x="1476" y="373"/>
                  </a:lnTo>
                  <a:lnTo>
                    <a:pt x="1408" y="333"/>
                  </a:lnTo>
                  <a:lnTo>
                    <a:pt x="1326" y="296"/>
                  </a:lnTo>
                  <a:lnTo>
                    <a:pt x="1243" y="262"/>
                  </a:lnTo>
                  <a:lnTo>
                    <a:pt x="1145" y="229"/>
                  </a:lnTo>
                  <a:lnTo>
                    <a:pt x="1056" y="202"/>
                  </a:lnTo>
                  <a:lnTo>
                    <a:pt x="928" y="170"/>
                  </a:lnTo>
                  <a:lnTo>
                    <a:pt x="820" y="148"/>
                  </a:lnTo>
                  <a:lnTo>
                    <a:pt x="722" y="135"/>
                  </a:lnTo>
                  <a:lnTo>
                    <a:pt x="615" y="125"/>
                  </a:lnTo>
                  <a:lnTo>
                    <a:pt x="566" y="121"/>
                  </a:lnTo>
                  <a:lnTo>
                    <a:pt x="518" y="116"/>
                  </a:lnTo>
                  <a:lnTo>
                    <a:pt x="477" y="115"/>
                  </a:lnTo>
                  <a:lnTo>
                    <a:pt x="438" y="115"/>
                  </a:lnTo>
                  <a:lnTo>
                    <a:pt x="364" y="114"/>
                  </a:lnTo>
                  <a:lnTo>
                    <a:pt x="313" y="117"/>
                  </a:lnTo>
                  <a:lnTo>
                    <a:pt x="271" y="120"/>
                  </a:lnTo>
                  <a:lnTo>
                    <a:pt x="231" y="124"/>
                  </a:lnTo>
                  <a:lnTo>
                    <a:pt x="193" y="130"/>
                  </a:lnTo>
                  <a:lnTo>
                    <a:pt x="158" y="135"/>
                  </a:lnTo>
                  <a:lnTo>
                    <a:pt x="119" y="141"/>
                  </a:lnTo>
                  <a:lnTo>
                    <a:pt x="78" y="153"/>
                  </a:lnTo>
                  <a:lnTo>
                    <a:pt x="36" y="163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2717280" y="2452680"/>
              <a:ext cx="1826640" cy="781200"/>
              <a:chOff x="2717280" y="2452680"/>
              <a:chExt cx="1826640" cy="781200"/>
            </a:xfrm>
          </p:grpSpPr>
          <p:sp>
            <p:nvSpPr>
              <p:cNvPr id="433" name=""/>
              <p:cNvSpPr/>
              <p:nvPr/>
            </p:nvSpPr>
            <p:spPr>
              <a:xfrm>
                <a:off x="2717280" y="2452680"/>
                <a:ext cx="1826640" cy="781200"/>
              </a:xfrm>
              <a:custGeom>
                <a:avLst/>
                <a:gdLst/>
                <a:ahLst/>
                <a:rect l="l" t="t" r="r" b="b"/>
                <a:pathLst>
                  <a:path w="1950" h="564">
                    <a:moveTo>
                      <a:pt x="0" y="168"/>
                    </a:moveTo>
                    <a:lnTo>
                      <a:pt x="45" y="138"/>
                    </a:lnTo>
                    <a:lnTo>
                      <a:pt x="83" y="116"/>
                    </a:lnTo>
                    <a:lnTo>
                      <a:pt x="119" y="99"/>
                    </a:lnTo>
                    <a:lnTo>
                      <a:pt x="162" y="81"/>
                    </a:lnTo>
                    <a:lnTo>
                      <a:pt x="223" y="57"/>
                    </a:lnTo>
                    <a:lnTo>
                      <a:pt x="285" y="40"/>
                    </a:lnTo>
                    <a:lnTo>
                      <a:pt x="359" y="27"/>
                    </a:lnTo>
                    <a:lnTo>
                      <a:pt x="433" y="15"/>
                    </a:lnTo>
                    <a:lnTo>
                      <a:pt x="505" y="8"/>
                    </a:lnTo>
                    <a:lnTo>
                      <a:pt x="597" y="2"/>
                    </a:lnTo>
                    <a:lnTo>
                      <a:pt x="665" y="0"/>
                    </a:lnTo>
                    <a:lnTo>
                      <a:pt x="757" y="4"/>
                    </a:lnTo>
                    <a:lnTo>
                      <a:pt x="861" y="8"/>
                    </a:lnTo>
                    <a:lnTo>
                      <a:pt x="963" y="16"/>
                    </a:lnTo>
                    <a:lnTo>
                      <a:pt x="1039" y="23"/>
                    </a:lnTo>
                    <a:lnTo>
                      <a:pt x="1143" y="47"/>
                    </a:lnTo>
                    <a:lnTo>
                      <a:pt x="1228" y="68"/>
                    </a:lnTo>
                    <a:lnTo>
                      <a:pt x="1315" y="96"/>
                    </a:lnTo>
                    <a:lnTo>
                      <a:pt x="1405" y="128"/>
                    </a:lnTo>
                    <a:lnTo>
                      <a:pt x="1457" y="153"/>
                    </a:lnTo>
                    <a:lnTo>
                      <a:pt x="1515" y="185"/>
                    </a:lnTo>
                    <a:lnTo>
                      <a:pt x="1559" y="212"/>
                    </a:lnTo>
                    <a:lnTo>
                      <a:pt x="1601" y="239"/>
                    </a:lnTo>
                    <a:lnTo>
                      <a:pt x="1632" y="264"/>
                    </a:lnTo>
                    <a:lnTo>
                      <a:pt x="1707" y="123"/>
                    </a:lnTo>
                    <a:lnTo>
                      <a:pt x="1731" y="192"/>
                    </a:lnTo>
                    <a:lnTo>
                      <a:pt x="1758" y="258"/>
                    </a:lnTo>
                    <a:lnTo>
                      <a:pt x="1795" y="344"/>
                    </a:lnTo>
                    <a:lnTo>
                      <a:pt x="1842" y="422"/>
                    </a:lnTo>
                    <a:lnTo>
                      <a:pt x="1887" y="489"/>
                    </a:lnTo>
                    <a:lnTo>
                      <a:pt x="1950" y="562"/>
                    </a:lnTo>
                    <a:lnTo>
                      <a:pt x="1862" y="548"/>
                    </a:lnTo>
                    <a:lnTo>
                      <a:pt x="1770" y="537"/>
                    </a:lnTo>
                    <a:lnTo>
                      <a:pt x="1668" y="533"/>
                    </a:lnTo>
                    <a:lnTo>
                      <a:pt x="1583" y="539"/>
                    </a:lnTo>
                    <a:lnTo>
                      <a:pt x="1533" y="544"/>
                    </a:lnTo>
                    <a:lnTo>
                      <a:pt x="1472" y="564"/>
                    </a:lnTo>
                    <a:lnTo>
                      <a:pt x="1547" y="422"/>
                    </a:lnTo>
                    <a:lnTo>
                      <a:pt x="1473" y="374"/>
                    </a:lnTo>
                    <a:lnTo>
                      <a:pt x="1406" y="335"/>
                    </a:lnTo>
                    <a:lnTo>
                      <a:pt x="1324" y="297"/>
                    </a:lnTo>
                    <a:lnTo>
                      <a:pt x="1241" y="262"/>
                    </a:lnTo>
                    <a:lnTo>
                      <a:pt x="1143" y="230"/>
                    </a:lnTo>
                    <a:lnTo>
                      <a:pt x="1054" y="202"/>
                    </a:lnTo>
                    <a:lnTo>
                      <a:pt x="925" y="169"/>
                    </a:lnTo>
                    <a:lnTo>
                      <a:pt x="818" y="147"/>
                    </a:lnTo>
                    <a:lnTo>
                      <a:pt x="721" y="133"/>
                    </a:lnTo>
                    <a:lnTo>
                      <a:pt x="614" y="123"/>
                    </a:lnTo>
                    <a:lnTo>
                      <a:pt x="565" y="118"/>
                    </a:lnTo>
                    <a:lnTo>
                      <a:pt x="517" y="113"/>
                    </a:lnTo>
                    <a:lnTo>
                      <a:pt x="477" y="111"/>
                    </a:lnTo>
                    <a:lnTo>
                      <a:pt x="438" y="112"/>
                    </a:lnTo>
                    <a:lnTo>
                      <a:pt x="363" y="110"/>
                    </a:lnTo>
                    <a:lnTo>
                      <a:pt x="312" y="112"/>
                    </a:lnTo>
                    <a:lnTo>
                      <a:pt x="272" y="116"/>
                    </a:lnTo>
                    <a:lnTo>
                      <a:pt x="231" y="119"/>
                    </a:lnTo>
                    <a:lnTo>
                      <a:pt x="193" y="124"/>
                    </a:lnTo>
                    <a:lnTo>
                      <a:pt x="159" y="129"/>
                    </a:lnTo>
                    <a:lnTo>
                      <a:pt x="120" y="135"/>
                    </a:lnTo>
                    <a:lnTo>
                      <a:pt x="78" y="146"/>
                    </a:lnTo>
                    <a:lnTo>
                      <a:pt x="38" y="155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717280" y="2452680"/>
                <a:ext cx="1826640" cy="781200"/>
              </a:xfrm>
              <a:custGeom>
                <a:avLst/>
                <a:gdLst/>
                <a:ahLst/>
                <a:rect l="l" t="t" r="r" b="b"/>
                <a:pathLst>
                  <a:path w="1950" h="564">
                    <a:moveTo>
                      <a:pt x="0" y="168"/>
                    </a:moveTo>
                    <a:lnTo>
                      <a:pt x="45" y="138"/>
                    </a:lnTo>
                    <a:lnTo>
                      <a:pt x="83" y="116"/>
                    </a:lnTo>
                    <a:lnTo>
                      <a:pt x="119" y="99"/>
                    </a:lnTo>
                    <a:lnTo>
                      <a:pt x="162" y="81"/>
                    </a:lnTo>
                    <a:lnTo>
                      <a:pt x="223" y="57"/>
                    </a:lnTo>
                    <a:lnTo>
                      <a:pt x="285" y="40"/>
                    </a:lnTo>
                    <a:lnTo>
                      <a:pt x="359" y="27"/>
                    </a:lnTo>
                    <a:lnTo>
                      <a:pt x="433" y="15"/>
                    </a:lnTo>
                    <a:lnTo>
                      <a:pt x="505" y="8"/>
                    </a:lnTo>
                    <a:lnTo>
                      <a:pt x="597" y="2"/>
                    </a:lnTo>
                    <a:lnTo>
                      <a:pt x="665" y="0"/>
                    </a:lnTo>
                    <a:lnTo>
                      <a:pt x="757" y="4"/>
                    </a:lnTo>
                    <a:lnTo>
                      <a:pt x="861" y="8"/>
                    </a:lnTo>
                    <a:lnTo>
                      <a:pt x="963" y="16"/>
                    </a:lnTo>
                    <a:lnTo>
                      <a:pt x="1039" y="23"/>
                    </a:lnTo>
                    <a:lnTo>
                      <a:pt x="1143" y="47"/>
                    </a:lnTo>
                    <a:lnTo>
                      <a:pt x="1228" y="68"/>
                    </a:lnTo>
                    <a:lnTo>
                      <a:pt x="1315" y="96"/>
                    </a:lnTo>
                    <a:lnTo>
                      <a:pt x="1405" y="128"/>
                    </a:lnTo>
                    <a:lnTo>
                      <a:pt x="1457" y="153"/>
                    </a:lnTo>
                    <a:lnTo>
                      <a:pt x="1515" y="185"/>
                    </a:lnTo>
                    <a:lnTo>
                      <a:pt x="1559" y="212"/>
                    </a:lnTo>
                    <a:lnTo>
                      <a:pt x="1601" y="239"/>
                    </a:lnTo>
                    <a:lnTo>
                      <a:pt x="1632" y="264"/>
                    </a:lnTo>
                    <a:lnTo>
                      <a:pt x="1707" y="123"/>
                    </a:lnTo>
                    <a:lnTo>
                      <a:pt x="1731" y="192"/>
                    </a:lnTo>
                    <a:lnTo>
                      <a:pt x="1758" y="258"/>
                    </a:lnTo>
                    <a:lnTo>
                      <a:pt x="1795" y="344"/>
                    </a:lnTo>
                    <a:lnTo>
                      <a:pt x="1842" y="422"/>
                    </a:lnTo>
                    <a:lnTo>
                      <a:pt x="1887" y="489"/>
                    </a:lnTo>
                    <a:lnTo>
                      <a:pt x="1950" y="562"/>
                    </a:lnTo>
                    <a:lnTo>
                      <a:pt x="1862" y="548"/>
                    </a:lnTo>
                    <a:lnTo>
                      <a:pt x="1770" y="537"/>
                    </a:lnTo>
                    <a:lnTo>
                      <a:pt x="1668" y="533"/>
                    </a:lnTo>
                    <a:lnTo>
                      <a:pt x="1583" y="539"/>
                    </a:lnTo>
                    <a:lnTo>
                      <a:pt x="1533" y="544"/>
                    </a:lnTo>
                    <a:lnTo>
                      <a:pt x="1472" y="564"/>
                    </a:lnTo>
                    <a:lnTo>
                      <a:pt x="1547" y="422"/>
                    </a:lnTo>
                    <a:lnTo>
                      <a:pt x="1473" y="374"/>
                    </a:lnTo>
                    <a:lnTo>
                      <a:pt x="1406" y="335"/>
                    </a:lnTo>
                    <a:lnTo>
                      <a:pt x="1324" y="297"/>
                    </a:lnTo>
                    <a:lnTo>
                      <a:pt x="1241" y="262"/>
                    </a:lnTo>
                    <a:lnTo>
                      <a:pt x="1143" y="230"/>
                    </a:lnTo>
                    <a:lnTo>
                      <a:pt x="1054" y="202"/>
                    </a:lnTo>
                    <a:lnTo>
                      <a:pt x="925" y="169"/>
                    </a:lnTo>
                    <a:lnTo>
                      <a:pt x="818" y="147"/>
                    </a:lnTo>
                    <a:lnTo>
                      <a:pt x="721" y="133"/>
                    </a:lnTo>
                    <a:lnTo>
                      <a:pt x="614" y="123"/>
                    </a:lnTo>
                    <a:lnTo>
                      <a:pt x="565" y="118"/>
                    </a:lnTo>
                    <a:lnTo>
                      <a:pt x="517" y="113"/>
                    </a:lnTo>
                    <a:lnTo>
                      <a:pt x="477" y="111"/>
                    </a:lnTo>
                    <a:lnTo>
                      <a:pt x="438" y="112"/>
                    </a:lnTo>
                    <a:lnTo>
                      <a:pt x="363" y="110"/>
                    </a:lnTo>
                    <a:lnTo>
                      <a:pt x="312" y="112"/>
                    </a:lnTo>
                    <a:lnTo>
                      <a:pt x="272" y="116"/>
                    </a:lnTo>
                    <a:lnTo>
                      <a:pt x="231" y="119"/>
                    </a:lnTo>
                    <a:lnTo>
                      <a:pt x="193" y="124"/>
                    </a:lnTo>
                    <a:lnTo>
                      <a:pt x="159" y="129"/>
                    </a:lnTo>
                    <a:lnTo>
                      <a:pt x="120" y="135"/>
                    </a:lnTo>
                    <a:lnTo>
                      <a:pt x="78" y="146"/>
                    </a:lnTo>
                    <a:lnTo>
                      <a:pt x="38" y="155"/>
                    </a:lnTo>
                    <a:lnTo>
                      <a:pt x="0" y="168"/>
                    </a:ln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5" name=""/>
          <p:cNvSpPr/>
          <p:nvPr/>
        </p:nvSpPr>
        <p:spPr>
          <a:xfrm>
            <a:off x="5313240" y="3121200"/>
            <a:ext cx="435240" cy="1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rot="1171200">
            <a:off x="4473360" y="2815920"/>
            <a:ext cx="1380960" cy="119376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66ff99"/>
              </a:gs>
              <a:gs pos="100000">
                <a:srgbClr val="333399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4686480" y="2614680"/>
            <a:ext cx="552240" cy="512280"/>
            <a:chOff x="4686480" y="2614680"/>
            <a:chExt cx="552240" cy="512280"/>
          </a:xfrm>
        </p:grpSpPr>
        <p:sp>
          <p:nvSpPr>
            <p:cNvPr id="438" name=""/>
            <p:cNvSpPr/>
            <p:nvPr/>
          </p:nvSpPr>
          <p:spPr>
            <a:xfrm>
              <a:off x="4686480" y="2841840"/>
              <a:ext cx="552240" cy="2851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700880" y="2912400"/>
              <a:ext cx="5227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830120" y="26146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"/>
          <p:cNvSpPr/>
          <p:nvPr/>
        </p:nvSpPr>
        <p:spPr>
          <a:xfrm rot="1401600">
            <a:off x="7360920" y="4511160"/>
            <a:ext cx="947520" cy="11430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66ff99"/>
              </a:gs>
              <a:gs pos="100000">
                <a:srgbClr val="333399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054240" y="5904000"/>
            <a:ext cx="43524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7640640" y="4554360"/>
            <a:ext cx="550800" cy="446040"/>
            <a:chOff x="7640640" y="4554360"/>
            <a:chExt cx="550800" cy="446040"/>
          </a:xfrm>
        </p:grpSpPr>
        <p:sp>
          <p:nvSpPr>
            <p:cNvPr id="444" name=""/>
            <p:cNvSpPr/>
            <p:nvPr/>
          </p:nvSpPr>
          <p:spPr>
            <a:xfrm>
              <a:off x="7640640" y="4730040"/>
              <a:ext cx="550800" cy="27036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754040" y="4797720"/>
              <a:ext cx="32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S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91840" y="45543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6203880" y="5499000"/>
            <a:ext cx="398520" cy="352080"/>
            <a:chOff x="6203880" y="5499000"/>
            <a:chExt cx="398520" cy="352080"/>
          </a:xfrm>
        </p:grpSpPr>
        <p:sp>
          <p:nvSpPr>
            <p:cNvPr id="448" name=""/>
            <p:cNvSpPr/>
            <p:nvPr/>
          </p:nvSpPr>
          <p:spPr>
            <a:xfrm>
              <a:off x="6301440" y="5499000"/>
              <a:ext cx="21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203880" y="5629680"/>
              <a:ext cx="398520" cy="2214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275160" y="56736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S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1941480" y="2166840"/>
            <a:ext cx="52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017800" y="1600200"/>
            <a:ext cx="34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917720" y="1762200"/>
            <a:ext cx="552600" cy="26964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5537160" y="5181480"/>
            <a:ext cx="639720" cy="434880"/>
            <a:chOff x="5537160" y="5181480"/>
            <a:chExt cx="639720" cy="434880"/>
          </a:xfrm>
        </p:grpSpPr>
        <p:sp>
          <p:nvSpPr>
            <p:cNvPr id="455" name=""/>
            <p:cNvSpPr/>
            <p:nvPr/>
          </p:nvSpPr>
          <p:spPr>
            <a:xfrm>
              <a:off x="5724360" y="5181480"/>
              <a:ext cx="2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"/>
            <p:cNvGrpSpPr/>
            <p:nvPr/>
          </p:nvGrpSpPr>
          <p:grpSpPr>
            <a:xfrm>
              <a:off x="5537160" y="5317200"/>
              <a:ext cx="639720" cy="299160"/>
              <a:chOff x="5537160" y="5317200"/>
              <a:chExt cx="639720" cy="299160"/>
            </a:xfrm>
          </p:grpSpPr>
          <p:sp>
            <p:nvSpPr>
              <p:cNvPr id="457" name=""/>
              <p:cNvSpPr/>
              <p:nvPr/>
            </p:nvSpPr>
            <p:spPr>
              <a:xfrm>
                <a:off x="5537160" y="5317200"/>
                <a:ext cx="639720" cy="299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669280" y="5398560"/>
                <a:ext cx="375480" cy="1357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725080" y="5425200"/>
                <a:ext cx="263880" cy="81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5725080" y="5425200"/>
                <a:ext cx="263880" cy="81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1" name=""/>
          <p:cNvGrpSpPr/>
          <p:nvPr/>
        </p:nvGrpSpPr>
        <p:grpSpPr>
          <a:xfrm>
            <a:off x="1776240" y="2004840"/>
            <a:ext cx="552600" cy="514080"/>
            <a:chOff x="1776240" y="2004840"/>
            <a:chExt cx="552600" cy="514080"/>
          </a:xfrm>
        </p:grpSpPr>
        <p:sp>
          <p:nvSpPr>
            <p:cNvPr id="462" name=""/>
            <p:cNvSpPr/>
            <p:nvPr/>
          </p:nvSpPr>
          <p:spPr>
            <a:xfrm>
              <a:off x="1776240" y="2233080"/>
              <a:ext cx="552600" cy="28584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790640" y="2305080"/>
              <a:ext cx="52308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920240" y="20048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6505560" y="4672080"/>
            <a:ext cx="1148400" cy="1177200"/>
            <a:chOff x="6505560" y="4672080"/>
            <a:chExt cx="1148400" cy="1177200"/>
          </a:xfrm>
        </p:grpSpPr>
        <p:sp>
          <p:nvSpPr>
            <p:cNvPr id="466" name=""/>
            <p:cNvSpPr/>
            <p:nvPr/>
          </p:nvSpPr>
          <p:spPr>
            <a:xfrm rot="8058600">
              <a:off x="6400440" y="5114880"/>
              <a:ext cx="1355760" cy="277920"/>
            </a:xfrm>
            <a:custGeom>
              <a:avLst/>
              <a:gdLst/>
              <a:ahLst/>
              <a:rect l="l" t="t" r="r" b="b"/>
              <a:pathLst>
                <a:path w="1974" h="565">
                  <a:moveTo>
                    <a:pt x="0" y="176"/>
                  </a:moveTo>
                  <a:lnTo>
                    <a:pt x="26" y="127"/>
                  </a:lnTo>
                  <a:lnTo>
                    <a:pt x="75" y="105"/>
                  </a:lnTo>
                  <a:lnTo>
                    <a:pt x="115" y="87"/>
                  </a:lnTo>
                  <a:lnTo>
                    <a:pt x="168" y="69"/>
                  </a:lnTo>
                  <a:lnTo>
                    <a:pt x="233" y="51"/>
                  </a:lnTo>
                  <a:lnTo>
                    <a:pt x="285" y="44"/>
                  </a:lnTo>
                  <a:lnTo>
                    <a:pt x="360" y="29"/>
                  </a:lnTo>
                  <a:lnTo>
                    <a:pt x="435" y="17"/>
                  </a:lnTo>
                  <a:lnTo>
                    <a:pt x="507" y="9"/>
                  </a:lnTo>
                  <a:lnTo>
                    <a:pt x="599" y="2"/>
                  </a:lnTo>
                  <a:lnTo>
                    <a:pt x="667" y="0"/>
                  </a:lnTo>
                  <a:lnTo>
                    <a:pt x="760" y="3"/>
                  </a:lnTo>
                  <a:lnTo>
                    <a:pt x="864" y="6"/>
                  </a:lnTo>
                  <a:lnTo>
                    <a:pt x="966" y="13"/>
                  </a:lnTo>
                  <a:lnTo>
                    <a:pt x="1042" y="21"/>
                  </a:lnTo>
                  <a:lnTo>
                    <a:pt x="1146" y="42"/>
                  </a:lnTo>
                  <a:lnTo>
                    <a:pt x="1232" y="64"/>
                  </a:lnTo>
                  <a:lnTo>
                    <a:pt x="1319" y="92"/>
                  </a:lnTo>
                  <a:lnTo>
                    <a:pt x="1409" y="124"/>
                  </a:lnTo>
                  <a:lnTo>
                    <a:pt x="1460" y="148"/>
                  </a:lnTo>
                  <a:lnTo>
                    <a:pt x="1519" y="181"/>
                  </a:lnTo>
                  <a:lnTo>
                    <a:pt x="1562" y="208"/>
                  </a:lnTo>
                  <a:lnTo>
                    <a:pt x="1605" y="235"/>
                  </a:lnTo>
                  <a:lnTo>
                    <a:pt x="1636" y="260"/>
                  </a:lnTo>
                  <a:lnTo>
                    <a:pt x="1726" y="90"/>
                  </a:lnTo>
                  <a:lnTo>
                    <a:pt x="1747" y="156"/>
                  </a:lnTo>
                  <a:lnTo>
                    <a:pt x="1777" y="235"/>
                  </a:lnTo>
                  <a:lnTo>
                    <a:pt x="1811" y="314"/>
                  </a:lnTo>
                  <a:lnTo>
                    <a:pt x="1856" y="396"/>
                  </a:lnTo>
                  <a:lnTo>
                    <a:pt x="1894" y="449"/>
                  </a:lnTo>
                  <a:lnTo>
                    <a:pt x="1974" y="524"/>
                  </a:lnTo>
                  <a:lnTo>
                    <a:pt x="1954" y="561"/>
                  </a:lnTo>
                  <a:lnTo>
                    <a:pt x="1865" y="547"/>
                  </a:lnTo>
                  <a:lnTo>
                    <a:pt x="1770" y="534"/>
                  </a:lnTo>
                  <a:lnTo>
                    <a:pt x="1668" y="533"/>
                  </a:lnTo>
                  <a:lnTo>
                    <a:pt x="1585" y="540"/>
                  </a:lnTo>
                  <a:lnTo>
                    <a:pt x="1533" y="545"/>
                  </a:lnTo>
                  <a:lnTo>
                    <a:pt x="1472" y="565"/>
                  </a:lnTo>
                  <a:lnTo>
                    <a:pt x="1547" y="421"/>
                  </a:lnTo>
                  <a:lnTo>
                    <a:pt x="1476" y="373"/>
                  </a:lnTo>
                  <a:lnTo>
                    <a:pt x="1408" y="333"/>
                  </a:lnTo>
                  <a:lnTo>
                    <a:pt x="1326" y="296"/>
                  </a:lnTo>
                  <a:lnTo>
                    <a:pt x="1243" y="262"/>
                  </a:lnTo>
                  <a:lnTo>
                    <a:pt x="1145" y="229"/>
                  </a:lnTo>
                  <a:lnTo>
                    <a:pt x="1056" y="202"/>
                  </a:lnTo>
                  <a:lnTo>
                    <a:pt x="928" y="170"/>
                  </a:lnTo>
                  <a:lnTo>
                    <a:pt x="820" y="148"/>
                  </a:lnTo>
                  <a:lnTo>
                    <a:pt x="722" y="135"/>
                  </a:lnTo>
                  <a:lnTo>
                    <a:pt x="615" y="125"/>
                  </a:lnTo>
                  <a:lnTo>
                    <a:pt x="566" y="121"/>
                  </a:lnTo>
                  <a:lnTo>
                    <a:pt x="518" y="116"/>
                  </a:lnTo>
                  <a:lnTo>
                    <a:pt x="477" y="115"/>
                  </a:lnTo>
                  <a:lnTo>
                    <a:pt x="438" y="115"/>
                  </a:lnTo>
                  <a:lnTo>
                    <a:pt x="364" y="114"/>
                  </a:lnTo>
                  <a:lnTo>
                    <a:pt x="313" y="117"/>
                  </a:lnTo>
                  <a:lnTo>
                    <a:pt x="271" y="120"/>
                  </a:lnTo>
                  <a:lnTo>
                    <a:pt x="231" y="124"/>
                  </a:lnTo>
                  <a:lnTo>
                    <a:pt x="193" y="130"/>
                  </a:lnTo>
                  <a:lnTo>
                    <a:pt x="158" y="135"/>
                  </a:lnTo>
                  <a:lnTo>
                    <a:pt x="119" y="141"/>
                  </a:lnTo>
                  <a:lnTo>
                    <a:pt x="78" y="153"/>
                  </a:lnTo>
                  <a:lnTo>
                    <a:pt x="36" y="163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6519960" y="4696920"/>
              <a:ext cx="1134000" cy="1152360"/>
              <a:chOff x="6519960" y="4696920"/>
              <a:chExt cx="1134000" cy="1152360"/>
            </a:xfrm>
          </p:grpSpPr>
          <p:sp>
            <p:nvSpPr>
              <p:cNvPr id="468" name=""/>
              <p:cNvSpPr/>
              <p:nvPr/>
            </p:nvSpPr>
            <p:spPr>
              <a:xfrm rot="8058600">
                <a:off x="6417000" y="5134320"/>
                <a:ext cx="1339200" cy="277560"/>
              </a:xfrm>
              <a:custGeom>
                <a:avLst/>
                <a:gdLst/>
                <a:ahLst/>
                <a:rect l="l" t="t" r="r" b="b"/>
                <a:pathLst>
                  <a:path w="1950" h="564">
                    <a:moveTo>
                      <a:pt x="0" y="168"/>
                    </a:moveTo>
                    <a:lnTo>
                      <a:pt x="45" y="138"/>
                    </a:lnTo>
                    <a:lnTo>
                      <a:pt x="83" y="116"/>
                    </a:lnTo>
                    <a:lnTo>
                      <a:pt x="119" y="99"/>
                    </a:lnTo>
                    <a:lnTo>
                      <a:pt x="162" y="81"/>
                    </a:lnTo>
                    <a:lnTo>
                      <a:pt x="223" y="57"/>
                    </a:lnTo>
                    <a:lnTo>
                      <a:pt x="285" y="40"/>
                    </a:lnTo>
                    <a:lnTo>
                      <a:pt x="359" y="27"/>
                    </a:lnTo>
                    <a:lnTo>
                      <a:pt x="433" y="15"/>
                    </a:lnTo>
                    <a:lnTo>
                      <a:pt x="505" y="8"/>
                    </a:lnTo>
                    <a:lnTo>
                      <a:pt x="597" y="2"/>
                    </a:lnTo>
                    <a:lnTo>
                      <a:pt x="665" y="0"/>
                    </a:lnTo>
                    <a:lnTo>
                      <a:pt x="757" y="4"/>
                    </a:lnTo>
                    <a:lnTo>
                      <a:pt x="861" y="8"/>
                    </a:lnTo>
                    <a:lnTo>
                      <a:pt x="963" y="16"/>
                    </a:lnTo>
                    <a:lnTo>
                      <a:pt x="1039" y="23"/>
                    </a:lnTo>
                    <a:lnTo>
                      <a:pt x="1143" y="47"/>
                    </a:lnTo>
                    <a:lnTo>
                      <a:pt x="1228" y="68"/>
                    </a:lnTo>
                    <a:lnTo>
                      <a:pt x="1315" y="96"/>
                    </a:lnTo>
                    <a:lnTo>
                      <a:pt x="1405" y="128"/>
                    </a:lnTo>
                    <a:lnTo>
                      <a:pt x="1457" y="153"/>
                    </a:lnTo>
                    <a:lnTo>
                      <a:pt x="1515" y="185"/>
                    </a:lnTo>
                    <a:lnTo>
                      <a:pt x="1559" y="212"/>
                    </a:lnTo>
                    <a:lnTo>
                      <a:pt x="1601" y="239"/>
                    </a:lnTo>
                    <a:lnTo>
                      <a:pt x="1632" y="264"/>
                    </a:lnTo>
                    <a:lnTo>
                      <a:pt x="1707" y="123"/>
                    </a:lnTo>
                    <a:lnTo>
                      <a:pt x="1731" y="192"/>
                    </a:lnTo>
                    <a:lnTo>
                      <a:pt x="1758" y="258"/>
                    </a:lnTo>
                    <a:lnTo>
                      <a:pt x="1795" y="344"/>
                    </a:lnTo>
                    <a:lnTo>
                      <a:pt x="1842" y="422"/>
                    </a:lnTo>
                    <a:lnTo>
                      <a:pt x="1887" y="489"/>
                    </a:lnTo>
                    <a:lnTo>
                      <a:pt x="1950" y="562"/>
                    </a:lnTo>
                    <a:lnTo>
                      <a:pt x="1862" y="548"/>
                    </a:lnTo>
                    <a:lnTo>
                      <a:pt x="1770" y="537"/>
                    </a:lnTo>
                    <a:lnTo>
                      <a:pt x="1668" y="533"/>
                    </a:lnTo>
                    <a:lnTo>
                      <a:pt x="1583" y="539"/>
                    </a:lnTo>
                    <a:lnTo>
                      <a:pt x="1533" y="544"/>
                    </a:lnTo>
                    <a:lnTo>
                      <a:pt x="1472" y="564"/>
                    </a:lnTo>
                    <a:lnTo>
                      <a:pt x="1547" y="422"/>
                    </a:lnTo>
                    <a:lnTo>
                      <a:pt x="1473" y="374"/>
                    </a:lnTo>
                    <a:lnTo>
                      <a:pt x="1406" y="335"/>
                    </a:lnTo>
                    <a:lnTo>
                      <a:pt x="1324" y="297"/>
                    </a:lnTo>
                    <a:lnTo>
                      <a:pt x="1241" y="262"/>
                    </a:lnTo>
                    <a:lnTo>
                      <a:pt x="1143" y="230"/>
                    </a:lnTo>
                    <a:lnTo>
                      <a:pt x="1054" y="202"/>
                    </a:lnTo>
                    <a:lnTo>
                      <a:pt x="925" y="169"/>
                    </a:lnTo>
                    <a:lnTo>
                      <a:pt x="818" y="147"/>
                    </a:lnTo>
                    <a:lnTo>
                      <a:pt x="721" y="133"/>
                    </a:lnTo>
                    <a:lnTo>
                      <a:pt x="614" y="123"/>
                    </a:lnTo>
                    <a:lnTo>
                      <a:pt x="565" y="118"/>
                    </a:lnTo>
                    <a:lnTo>
                      <a:pt x="517" y="113"/>
                    </a:lnTo>
                    <a:lnTo>
                      <a:pt x="477" y="111"/>
                    </a:lnTo>
                    <a:lnTo>
                      <a:pt x="438" y="112"/>
                    </a:lnTo>
                    <a:lnTo>
                      <a:pt x="363" y="110"/>
                    </a:lnTo>
                    <a:lnTo>
                      <a:pt x="312" y="112"/>
                    </a:lnTo>
                    <a:lnTo>
                      <a:pt x="272" y="116"/>
                    </a:lnTo>
                    <a:lnTo>
                      <a:pt x="231" y="119"/>
                    </a:lnTo>
                    <a:lnTo>
                      <a:pt x="193" y="124"/>
                    </a:lnTo>
                    <a:lnTo>
                      <a:pt x="159" y="129"/>
                    </a:lnTo>
                    <a:lnTo>
                      <a:pt x="120" y="135"/>
                    </a:lnTo>
                    <a:lnTo>
                      <a:pt x="78" y="146"/>
                    </a:lnTo>
                    <a:lnTo>
                      <a:pt x="38" y="155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rot="8058600">
                <a:off x="6417000" y="5134320"/>
                <a:ext cx="1339200" cy="277560"/>
              </a:xfrm>
              <a:custGeom>
                <a:avLst/>
                <a:gdLst/>
                <a:ahLst/>
                <a:rect l="l" t="t" r="r" b="b"/>
                <a:pathLst>
                  <a:path w="1950" h="564">
                    <a:moveTo>
                      <a:pt x="0" y="168"/>
                    </a:moveTo>
                    <a:lnTo>
                      <a:pt x="45" y="138"/>
                    </a:lnTo>
                    <a:lnTo>
                      <a:pt x="83" y="116"/>
                    </a:lnTo>
                    <a:lnTo>
                      <a:pt x="119" y="99"/>
                    </a:lnTo>
                    <a:lnTo>
                      <a:pt x="162" y="81"/>
                    </a:lnTo>
                    <a:lnTo>
                      <a:pt x="223" y="57"/>
                    </a:lnTo>
                    <a:lnTo>
                      <a:pt x="285" y="40"/>
                    </a:lnTo>
                    <a:lnTo>
                      <a:pt x="359" y="27"/>
                    </a:lnTo>
                    <a:lnTo>
                      <a:pt x="433" y="15"/>
                    </a:lnTo>
                    <a:lnTo>
                      <a:pt x="505" y="8"/>
                    </a:lnTo>
                    <a:lnTo>
                      <a:pt x="597" y="2"/>
                    </a:lnTo>
                    <a:lnTo>
                      <a:pt x="665" y="0"/>
                    </a:lnTo>
                    <a:lnTo>
                      <a:pt x="757" y="4"/>
                    </a:lnTo>
                    <a:lnTo>
                      <a:pt x="861" y="8"/>
                    </a:lnTo>
                    <a:lnTo>
                      <a:pt x="963" y="16"/>
                    </a:lnTo>
                    <a:lnTo>
                      <a:pt x="1039" y="23"/>
                    </a:lnTo>
                    <a:lnTo>
                      <a:pt x="1143" y="47"/>
                    </a:lnTo>
                    <a:lnTo>
                      <a:pt x="1228" y="68"/>
                    </a:lnTo>
                    <a:lnTo>
                      <a:pt x="1315" y="96"/>
                    </a:lnTo>
                    <a:lnTo>
                      <a:pt x="1405" y="128"/>
                    </a:lnTo>
                    <a:lnTo>
                      <a:pt x="1457" y="153"/>
                    </a:lnTo>
                    <a:lnTo>
                      <a:pt x="1515" y="185"/>
                    </a:lnTo>
                    <a:lnTo>
                      <a:pt x="1559" y="212"/>
                    </a:lnTo>
                    <a:lnTo>
                      <a:pt x="1601" y="239"/>
                    </a:lnTo>
                    <a:lnTo>
                      <a:pt x="1632" y="264"/>
                    </a:lnTo>
                    <a:lnTo>
                      <a:pt x="1707" y="123"/>
                    </a:lnTo>
                    <a:lnTo>
                      <a:pt x="1731" y="192"/>
                    </a:lnTo>
                    <a:lnTo>
                      <a:pt x="1758" y="258"/>
                    </a:lnTo>
                    <a:lnTo>
                      <a:pt x="1795" y="344"/>
                    </a:lnTo>
                    <a:lnTo>
                      <a:pt x="1842" y="422"/>
                    </a:lnTo>
                    <a:lnTo>
                      <a:pt x="1887" y="489"/>
                    </a:lnTo>
                    <a:lnTo>
                      <a:pt x="1950" y="562"/>
                    </a:lnTo>
                    <a:lnTo>
                      <a:pt x="1862" y="548"/>
                    </a:lnTo>
                    <a:lnTo>
                      <a:pt x="1770" y="537"/>
                    </a:lnTo>
                    <a:lnTo>
                      <a:pt x="1668" y="533"/>
                    </a:lnTo>
                    <a:lnTo>
                      <a:pt x="1583" y="539"/>
                    </a:lnTo>
                    <a:lnTo>
                      <a:pt x="1533" y="544"/>
                    </a:lnTo>
                    <a:lnTo>
                      <a:pt x="1472" y="564"/>
                    </a:lnTo>
                    <a:lnTo>
                      <a:pt x="1547" y="422"/>
                    </a:lnTo>
                    <a:lnTo>
                      <a:pt x="1473" y="374"/>
                    </a:lnTo>
                    <a:lnTo>
                      <a:pt x="1406" y="335"/>
                    </a:lnTo>
                    <a:lnTo>
                      <a:pt x="1324" y="297"/>
                    </a:lnTo>
                    <a:lnTo>
                      <a:pt x="1241" y="262"/>
                    </a:lnTo>
                    <a:lnTo>
                      <a:pt x="1143" y="230"/>
                    </a:lnTo>
                    <a:lnTo>
                      <a:pt x="1054" y="202"/>
                    </a:lnTo>
                    <a:lnTo>
                      <a:pt x="925" y="169"/>
                    </a:lnTo>
                    <a:lnTo>
                      <a:pt x="818" y="147"/>
                    </a:lnTo>
                    <a:lnTo>
                      <a:pt x="721" y="133"/>
                    </a:lnTo>
                    <a:lnTo>
                      <a:pt x="614" y="123"/>
                    </a:lnTo>
                    <a:lnTo>
                      <a:pt x="565" y="118"/>
                    </a:lnTo>
                    <a:lnTo>
                      <a:pt x="517" y="113"/>
                    </a:lnTo>
                    <a:lnTo>
                      <a:pt x="477" y="111"/>
                    </a:lnTo>
                    <a:lnTo>
                      <a:pt x="438" y="112"/>
                    </a:lnTo>
                    <a:lnTo>
                      <a:pt x="363" y="110"/>
                    </a:lnTo>
                    <a:lnTo>
                      <a:pt x="312" y="112"/>
                    </a:lnTo>
                    <a:lnTo>
                      <a:pt x="272" y="116"/>
                    </a:lnTo>
                    <a:lnTo>
                      <a:pt x="231" y="119"/>
                    </a:lnTo>
                    <a:lnTo>
                      <a:pt x="193" y="124"/>
                    </a:lnTo>
                    <a:lnTo>
                      <a:pt x="159" y="129"/>
                    </a:lnTo>
                    <a:lnTo>
                      <a:pt x="120" y="135"/>
                    </a:lnTo>
                    <a:lnTo>
                      <a:pt x="78" y="146"/>
                    </a:lnTo>
                    <a:lnTo>
                      <a:pt x="38" y="155"/>
                    </a:lnTo>
                    <a:lnTo>
                      <a:pt x="0" y="168"/>
                    </a:ln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0" name=""/>
          <p:cNvGrpSpPr/>
          <p:nvPr/>
        </p:nvGrpSpPr>
        <p:grpSpPr>
          <a:xfrm>
            <a:off x="2698920" y="2884320"/>
            <a:ext cx="933840" cy="535680"/>
            <a:chOff x="2698920" y="2884320"/>
            <a:chExt cx="933840" cy="535680"/>
          </a:xfrm>
        </p:grpSpPr>
        <p:sp>
          <p:nvSpPr>
            <p:cNvPr id="471" name=""/>
            <p:cNvSpPr/>
            <p:nvPr/>
          </p:nvSpPr>
          <p:spPr>
            <a:xfrm>
              <a:off x="2698920" y="2884320"/>
              <a:ext cx="354960" cy="27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970360" y="305172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 flipV="1">
              <a:off x="2911680" y="3019320"/>
              <a:ext cx="141840" cy="13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6461280" y="6060960"/>
            <a:ext cx="1861200" cy="535680"/>
            <a:chOff x="6461280" y="6060960"/>
            <a:chExt cx="1861200" cy="535680"/>
          </a:xfrm>
        </p:grpSpPr>
        <p:sp>
          <p:nvSpPr>
            <p:cNvPr id="475" name=""/>
            <p:cNvSpPr/>
            <p:nvPr/>
          </p:nvSpPr>
          <p:spPr>
            <a:xfrm>
              <a:off x="6461280" y="6060960"/>
              <a:ext cx="354240" cy="27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730560" y="6228360"/>
              <a:ext cx="159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 V Se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 flipV="1">
              <a:off x="6673680" y="6195960"/>
              <a:ext cx="141480" cy="13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5467320" y="3627360"/>
            <a:ext cx="920520" cy="535680"/>
            <a:chOff x="5467320" y="3627360"/>
            <a:chExt cx="920520" cy="535680"/>
          </a:xfrm>
        </p:grpSpPr>
        <p:sp>
          <p:nvSpPr>
            <p:cNvPr id="479" name=""/>
            <p:cNvSpPr/>
            <p:nvPr/>
          </p:nvSpPr>
          <p:spPr>
            <a:xfrm>
              <a:off x="5467320" y="3627360"/>
              <a:ext cx="354240" cy="27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737680" y="37947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 flipV="1">
              <a:off x="5679720" y="3762360"/>
              <a:ext cx="141480" cy="13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1994040" y="3344040"/>
            <a:ext cx="4425120" cy="3741840"/>
            <a:chOff x="1994040" y="3344040"/>
            <a:chExt cx="4425120" cy="3741840"/>
          </a:xfrm>
        </p:grpSpPr>
        <p:sp>
          <p:nvSpPr>
            <p:cNvPr id="483" name=""/>
            <p:cNvSpPr/>
            <p:nvPr/>
          </p:nvSpPr>
          <p:spPr>
            <a:xfrm flipV="1" rot="2273400">
              <a:off x="1722240" y="4782600"/>
              <a:ext cx="4968360" cy="820800"/>
            </a:xfrm>
            <a:custGeom>
              <a:avLst/>
              <a:gdLst/>
              <a:ahLst/>
              <a:rect l="l" t="t" r="r" b="b"/>
              <a:pathLst>
                <a:path w="1974" h="565">
                  <a:moveTo>
                    <a:pt x="0" y="176"/>
                  </a:moveTo>
                  <a:lnTo>
                    <a:pt x="26" y="127"/>
                  </a:lnTo>
                  <a:lnTo>
                    <a:pt x="75" y="105"/>
                  </a:lnTo>
                  <a:lnTo>
                    <a:pt x="115" y="87"/>
                  </a:lnTo>
                  <a:lnTo>
                    <a:pt x="168" y="69"/>
                  </a:lnTo>
                  <a:lnTo>
                    <a:pt x="233" y="51"/>
                  </a:lnTo>
                  <a:lnTo>
                    <a:pt x="285" y="44"/>
                  </a:lnTo>
                  <a:lnTo>
                    <a:pt x="360" y="29"/>
                  </a:lnTo>
                  <a:lnTo>
                    <a:pt x="435" y="17"/>
                  </a:lnTo>
                  <a:lnTo>
                    <a:pt x="507" y="9"/>
                  </a:lnTo>
                  <a:lnTo>
                    <a:pt x="599" y="2"/>
                  </a:lnTo>
                  <a:lnTo>
                    <a:pt x="667" y="0"/>
                  </a:lnTo>
                  <a:lnTo>
                    <a:pt x="760" y="3"/>
                  </a:lnTo>
                  <a:lnTo>
                    <a:pt x="864" y="6"/>
                  </a:lnTo>
                  <a:lnTo>
                    <a:pt x="966" y="13"/>
                  </a:lnTo>
                  <a:lnTo>
                    <a:pt x="1042" y="21"/>
                  </a:lnTo>
                  <a:lnTo>
                    <a:pt x="1146" y="42"/>
                  </a:lnTo>
                  <a:lnTo>
                    <a:pt x="1232" y="64"/>
                  </a:lnTo>
                  <a:lnTo>
                    <a:pt x="1319" y="92"/>
                  </a:lnTo>
                  <a:lnTo>
                    <a:pt x="1409" y="124"/>
                  </a:lnTo>
                  <a:lnTo>
                    <a:pt x="1460" y="148"/>
                  </a:lnTo>
                  <a:lnTo>
                    <a:pt x="1519" y="181"/>
                  </a:lnTo>
                  <a:lnTo>
                    <a:pt x="1562" y="208"/>
                  </a:lnTo>
                  <a:lnTo>
                    <a:pt x="1605" y="235"/>
                  </a:lnTo>
                  <a:lnTo>
                    <a:pt x="1636" y="260"/>
                  </a:lnTo>
                  <a:lnTo>
                    <a:pt x="1726" y="90"/>
                  </a:lnTo>
                  <a:lnTo>
                    <a:pt x="1747" y="156"/>
                  </a:lnTo>
                  <a:lnTo>
                    <a:pt x="1777" y="235"/>
                  </a:lnTo>
                  <a:lnTo>
                    <a:pt x="1811" y="314"/>
                  </a:lnTo>
                  <a:lnTo>
                    <a:pt x="1856" y="396"/>
                  </a:lnTo>
                  <a:lnTo>
                    <a:pt x="1894" y="449"/>
                  </a:lnTo>
                  <a:lnTo>
                    <a:pt x="1974" y="524"/>
                  </a:lnTo>
                  <a:lnTo>
                    <a:pt x="1954" y="561"/>
                  </a:lnTo>
                  <a:lnTo>
                    <a:pt x="1865" y="547"/>
                  </a:lnTo>
                  <a:lnTo>
                    <a:pt x="1770" y="534"/>
                  </a:lnTo>
                  <a:lnTo>
                    <a:pt x="1668" y="533"/>
                  </a:lnTo>
                  <a:lnTo>
                    <a:pt x="1585" y="540"/>
                  </a:lnTo>
                  <a:lnTo>
                    <a:pt x="1533" y="545"/>
                  </a:lnTo>
                  <a:lnTo>
                    <a:pt x="1472" y="565"/>
                  </a:lnTo>
                  <a:lnTo>
                    <a:pt x="1547" y="421"/>
                  </a:lnTo>
                  <a:lnTo>
                    <a:pt x="1476" y="373"/>
                  </a:lnTo>
                  <a:lnTo>
                    <a:pt x="1408" y="333"/>
                  </a:lnTo>
                  <a:lnTo>
                    <a:pt x="1326" y="296"/>
                  </a:lnTo>
                  <a:lnTo>
                    <a:pt x="1243" y="262"/>
                  </a:lnTo>
                  <a:lnTo>
                    <a:pt x="1145" y="229"/>
                  </a:lnTo>
                  <a:lnTo>
                    <a:pt x="1056" y="202"/>
                  </a:lnTo>
                  <a:lnTo>
                    <a:pt x="928" y="170"/>
                  </a:lnTo>
                  <a:lnTo>
                    <a:pt x="820" y="148"/>
                  </a:lnTo>
                  <a:lnTo>
                    <a:pt x="722" y="135"/>
                  </a:lnTo>
                  <a:lnTo>
                    <a:pt x="615" y="125"/>
                  </a:lnTo>
                  <a:lnTo>
                    <a:pt x="566" y="121"/>
                  </a:lnTo>
                  <a:lnTo>
                    <a:pt x="518" y="116"/>
                  </a:lnTo>
                  <a:lnTo>
                    <a:pt x="477" y="115"/>
                  </a:lnTo>
                  <a:lnTo>
                    <a:pt x="438" y="115"/>
                  </a:lnTo>
                  <a:lnTo>
                    <a:pt x="364" y="114"/>
                  </a:lnTo>
                  <a:lnTo>
                    <a:pt x="313" y="117"/>
                  </a:lnTo>
                  <a:lnTo>
                    <a:pt x="271" y="120"/>
                  </a:lnTo>
                  <a:lnTo>
                    <a:pt x="231" y="124"/>
                  </a:lnTo>
                  <a:lnTo>
                    <a:pt x="193" y="130"/>
                  </a:lnTo>
                  <a:lnTo>
                    <a:pt x="158" y="135"/>
                  </a:lnTo>
                  <a:lnTo>
                    <a:pt x="119" y="141"/>
                  </a:lnTo>
                  <a:lnTo>
                    <a:pt x="78" y="153"/>
                  </a:lnTo>
                  <a:lnTo>
                    <a:pt x="36" y="163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2004840" y="3425400"/>
              <a:ext cx="4376160" cy="3660480"/>
              <a:chOff x="2004840" y="3425400"/>
              <a:chExt cx="4376160" cy="3660480"/>
            </a:xfrm>
          </p:grpSpPr>
          <p:sp>
            <p:nvSpPr>
              <p:cNvPr id="485" name=""/>
              <p:cNvSpPr/>
              <p:nvPr/>
            </p:nvSpPr>
            <p:spPr>
              <a:xfrm flipV="1" rot="2273400">
                <a:off x="1739160" y="4845960"/>
                <a:ext cx="4907520" cy="819360"/>
              </a:xfrm>
              <a:custGeom>
                <a:avLst/>
                <a:gdLst/>
                <a:ahLst/>
                <a:rect l="l" t="t" r="r" b="b"/>
                <a:pathLst>
                  <a:path w="1950" h="564">
                    <a:moveTo>
                      <a:pt x="0" y="168"/>
                    </a:moveTo>
                    <a:lnTo>
                      <a:pt x="45" y="138"/>
                    </a:lnTo>
                    <a:lnTo>
                      <a:pt x="83" y="116"/>
                    </a:lnTo>
                    <a:lnTo>
                      <a:pt x="119" y="99"/>
                    </a:lnTo>
                    <a:lnTo>
                      <a:pt x="162" y="81"/>
                    </a:lnTo>
                    <a:lnTo>
                      <a:pt x="223" y="57"/>
                    </a:lnTo>
                    <a:lnTo>
                      <a:pt x="285" y="40"/>
                    </a:lnTo>
                    <a:lnTo>
                      <a:pt x="359" y="27"/>
                    </a:lnTo>
                    <a:lnTo>
                      <a:pt x="433" y="15"/>
                    </a:lnTo>
                    <a:lnTo>
                      <a:pt x="505" y="8"/>
                    </a:lnTo>
                    <a:lnTo>
                      <a:pt x="597" y="2"/>
                    </a:lnTo>
                    <a:lnTo>
                      <a:pt x="665" y="0"/>
                    </a:lnTo>
                    <a:lnTo>
                      <a:pt x="757" y="4"/>
                    </a:lnTo>
                    <a:lnTo>
                      <a:pt x="861" y="8"/>
                    </a:lnTo>
                    <a:lnTo>
                      <a:pt x="963" y="16"/>
                    </a:lnTo>
                    <a:lnTo>
                      <a:pt x="1039" y="23"/>
                    </a:lnTo>
                    <a:lnTo>
                      <a:pt x="1143" y="47"/>
                    </a:lnTo>
                    <a:lnTo>
                      <a:pt x="1228" y="68"/>
                    </a:lnTo>
                    <a:lnTo>
                      <a:pt x="1315" y="96"/>
                    </a:lnTo>
                    <a:lnTo>
                      <a:pt x="1405" y="128"/>
                    </a:lnTo>
                    <a:lnTo>
                      <a:pt x="1457" y="153"/>
                    </a:lnTo>
                    <a:lnTo>
                      <a:pt x="1515" y="185"/>
                    </a:lnTo>
                    <a:lnTo>
                      <a:pt x="1559" y="212"/>
                    </a:lnTo>
                    <a:lnTo>
                      <a:pt x="1601" y="239"/>
                    </a:lnTo>
                    <a:lnTo>
                      <a:pt x="1632" y="264"/>
                    </a:lnTo>
                    <a:lnTo>
                      <a:pt x="1707" y="123"/>
                    </a:lnTo>
                    <a:lnTo>
                      <a:pt x="1731" y="192"/>
                    </a:lnTo>
                    <a:lnTo>
                      <a:pt x="1758" y="258"/>
                    </a:lnTo>
                    <a:lnTo>
                      <a:pt x="1795" y="344"/>
                    </a:lnTo>
                    <a:lnTo>
                      <a:pt x="1842" y="422"/>
                    </a:lnTo>
                    <a:lnTo>
                      <a:pt x="1887" y="489"/>
                    </a:lnTo>
                    <a:lnTo>
                      <a:pt x="1950" y="562"/>
                    </a:lnTo>
                    <a:lnTo>
                      <a:pt x="1862" y="548"/>
                    </a:lnTo>
                    <a:lnTo>
                      <a:pt x="1770" y="537"/>
                    </a:lnTo>
                    <a:lnTo>
                      <a:pt x="1668" y="533"/>
                    </a:lnTo>
                    <a:lnTo>
                      <a:pt x="1583" y="539"/>
                    </a:lnTo>
                    <a:lnTo>
                      <a:pt x="1533" y="544"/>
                    </a:lnTo>
                    <a:lnTo>
                      <a:pt x="1472" y="564"/>
                    </a:lnTo>
                    <a:lnTo>
                      <a:pt x="1547" y="422"/>
                    </a:lnTo>
                    <a:lnTo>
                      <a:pt x="1473" y="374"/>
                    </a:lnTo>
                    <a:lnTo>
                      <a:pt x="1406" y="335"/>
                    </a:lnTo>
                    <a:lnTo>
                      <a:pt x="1324" y="297"/>
                    </a:lnTo>
                    <a:lnTo>
                      <a:pt x="1241" y="262"/>
                    </a:lnTo>
                    <a:lnTo>
                      <a:pt x="1143" y="230"/>
                    </a:lnTo>
                    <a:lnTo>
                      <a:pt x="1054" y="202"/>
                    </a:lnTo>
                    <a:lnTo>
                      <a:pt x="925" y="169"/>
                    </a:lnTo>
                    <a:lnTo>
                      <a:pt x="818" y="147"/>
                    </a:lnTo>
                    <a:lnTo>
                      <a:pt x="721" y="133"/>
                    </a:lnTo>
                    <a:lnTo>
                      <a:pt x="614" y="123"/>
                    </a:lnTo>
                    <a:lnTo>
                      <a:pt x="565" y="118"/>
                    </a:lnTo>
                    <a:lnTo>
                      <a:pt x="517" y="113"/>
                    </a:lnTo>
                    <a:lnTo>
                      <a:pt x="477" y="111"/>
                    </a:lnTo>
                    <a:lnTo>
                      <a:pt x="438" y="112"/>
                    </a:lnTo>
                    <a:lnTo>
                      <a:pt x="363" y="110"/>
                    </a:lnTo>
                    <a:lnTo>
                      <a:pt x="312" y="112"/>
                    </a:lnTo>
                    <a:lnTo>
                      <a:pt x="272" y="116"/>
                    </a:lnTo>
                    <a:lnTo>
                      <a:pt x="231" y="119"/>
                    </a:lnTo>
                    <a:lnTo>
                      <a:pt x="193" y="124"/>
                    </a:lnTo>
                    <a:lnTo>
                      <a:pt x="159" y="129"/>
                    </a:lnTo>
                    <a:lnTo>
                      <a:pt x="120" y="135"/>
                    </a:lnTo>
                    <a:lnTo>
                      <a:pt x="78" y="146"/>
                    </a:lnTo>
                    <a:lnTo>
                      <a:pt x="38" y="155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V="1" rot="2273400">
                <a:off x="1739160" y="4845960"/>
                <a:ext cx="4907520" cy="819360"/>
              </a:xfrm>
              <a:custGeom>
                <a:avLst/>
                <a:gdLst/>
                <a:ahLst/>
                <a:rect l="l" t="t" r="r" b="b"/>
                <a:pathLst>
                  <a:path w="1950" h="564">
                    <a:moveTo>
                      <a:pt x="0" y="168"/>
                    </a:moveTo>
                    <a:lnTo>
                      <a:pt x="45" y="138"/>
                    </a:lnTo>
                    <a:lnTo>
                      <a:pt x="83" y="116"/>
                    </a:lnTo>
                    <a:lnTo>
                      <a:pt x="119" y="99"/>
                    </a:lnTo>
                    <a:lnTo>
                      <a:pt x="162" y="81"/>
                    </a:lnTo>
                    <a:lnTo>
                      <a:pt x="223" y="57"/>
                    </a:lnTo>
                    <a:lnTo>
                      <a:pt x="285" y="40"/>
                    </a:lnTo>
                    <a:lnTo>
                      <a:pt x="359" y="27"/>
                    </a:lnTo>
                    <a:lnTo>
                      <a:pt x="433" y="15"/>
                    </a:lnTo>
                    <a:lnTo>
                      <a:pt x="505" y="8"/>
                    </a:lnTo>
                    <a:lnTo>
                      <a:pt x="597" y="2"/>
                    </a:lnTo>
                    <a:lnTo>
                      <a:pt x="665" y="0"/>
                    </a:lnTo>
                    <a:lnTo>
                      <a:pt x="757" y="4"/>
                    </a:lnTo>
                    <a:lnTo>
                      <a:pt x="861" y="8"/>
                    </a:lnTo>
                    <a:lnTo>
                      <a:pt x="963" y="16"/>
                    </a:lnTo>
                    <a:lnTo>
                      <a:pt x="1039" y="23"/>
                    </a:lnTo>
                    <a:lnTo>
                      <a:pt x="1143" y="47"/>
                    </a:lnTo>
                    <a:lnTo>
                      <a:pt x="1228" y="68"/>
                    </a:lnTo>
                    <a:lnTo>
                      <a:pt x="1315" y="96"/>
                    </a:lnTo>
                    <a:lnTo>
                      <a:pt x="1405" y="128"/>
                    </a:lnTo>
                    <a:lnTo>
                      <a:pt x="1457" y="153"/>
                    </a:lnTo>
                    <a:lnTo>
                      <a:pt x="1515" y="185"/>
                    </a:lnTo>
                    <a:lnTo>
                      <a:pt x="1559" y="212"/>
                    </a:lnTo>
                    <a:lnTo>
                      <a:pt x="1601" y="239"/>
                    </a:lnTo>
                    <a:lnTo>
                      <a:pt x="1632" y="264"/>
                    </a:lnTo>
                    <a:lnTo>
                      <a:pt x="1707" y="123"/>
                    </a:lnTo>
                    <a:lnTo>
                      <a:pt x="1731" y="192"/>
                    </a:lnTo>
                    <a:lnTo>
                      <a:pt x="1758" y="258"/>
                    </a:lnTo>
                    <a:lnTo>
                      <a:pt x="1795" y="344"/>
                    </a:lnTo>
                    <a:lnTo>
                      <a:pt x="1842" y="422"/>
                    </a:lnTo>
                    <a:lnTo>
                      <a:pt x="1887" y="489"/>
                    </a:lnTo>
                    <a:lnTo>
                      <a:pt x="1950" y="562"/>
                    </a:lnTo>
                    <a:lnTo>
                      <a:pt x="1862" y="548"/>
                    </a:lnTo>
                    <a:lnTo>
                      <a:pt x="1770" y="537"/>
                    </a:lnTo>
                    <a:lnTo>
                      <a:pt x="1668" y="533"/>
                    </a:lnTo>
                    <a:lnTo>
                      <a:pt x="1583" y="539"/>
                    </a:lnTo>
                    <a:lnTo>
                      <a:pt x="1533" y="544"/>
                    </a:lnTo>
                    <a:lnTo>
                      <a:pt x="1472" y="564"/>
                    </a:lnTo>
                    <a:lnTo>
                      <a:pt x="1547" y="422"/>
                    </a:lnTo>
                    <a:lnTo>
                      <a:pt x="1473" y="374"/>
                    </a:lnTo>
                    <a:lnTo>
                      <a:pt x="1406" y="335"/>
                    </a:lnTo>
                    <a:lnTo>
                      <a:pt x="1324" y="297"/>
                    </a:lnTo>
                    <a:lnTo>
                      <a:pt x="1241" y="262"/>
                    </a:lnTo>
                    <a:lnTo>
                      <a:pt x="1143" y="230"/>
                    </a:lnTo>
                    <a:lnTo>
                      <a:pt x="1054" y="202"/>
                    </a:lnTo>
                    <a:lnTo>
                      <a:pt x="925" y="169"/>
                    </a:lnTo>
                    <a:lnTo>
                      <a:pt x="818" y="147"/>
                    </a:lnTo>
                    <a:lnTo>
                      <a:pt x="721" y="133"/>
                    </a:lnTo>
                    <a:lnTo>
                      <a:pt x="614" y="123"/>
                    </a:lnTo>
                    <a:lnTo>
                      <a:pt x="565" y="118"/>
                    </a:lnTo>
                    <a:lnTo>
                      <a:pt x="517" y="113"/>
                    </a:lnTo>
                    <a:lnTo>
                      <a:pt x="477" y="111"/>
                    </a:lnTo>
                    <a:lnTo>
                      <a:pt x="438" y="112"/>
                    </a:lnTo>
                    <a:lnTo>
                      <a:pt x="363" y="110"/>
                    </a:lnTo>
                    <a:lnTo>
                      <a:pt x="312" y="112"/>
                    </a:lnTo>
                    <a:lnTo>
                      <a:pt x="272" y="116"/>
                    </a:lnTo>
                    <a:lnTo>
                      <a:pt x="231" y="119"/>
                    </a:lnTo>
                    <a:lnTo>
                      <a:pt x="193" y="124"/>
                    </a:lnTo>
                    <a:lnTo>
                      <a:pt x="159" y="129"/>
                    </a:lnTo>
                    <a:lnTo>
                      <a:pt x="120" y="135"/>
                    </a:lnTo>
                    <a:lnTo>
                      <a:pt x="78" y="146"/>
                    </a:lnTo>
                    <a:lnTo>
                      <a:pt x="38" y="155"/>
                    </a:lnTo>
                    <a:lnTo>
                      <a:pt x="0" y="168"/>
                    </a:ln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7" name=""/>
          <p:cNvSpPr/>
          <p:nvPr/>
        </p:nvSpPr>
        <p:spPr>
          <a:xfrm>
            <a:off x="2485440" y="4911840"/>
            <a:ext cx="200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ough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the Cor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5111640" y="3087720"/>
            <a:ext cx="1206720" cy="775440"/>
            <a:chOff x="5111640" y="3087720"/>
            <a:chExt cx="1206720" cy="775440"/>
          </a:xfrm>
        </p:grpSpPr>
        <p:grpSp>
          <p:nvGrpSpPr>
            <p:cNvPr id="489" name=""/>
            <p:cNvGrpSpPr/>
            <p:nvPr/>
          </p:nvGrpSpPr>
          <p:grpSpPr>
            <a:xfrm>
              <a:off x="5111640" y="3087720"/>
              <a:ext cx="1206720" cy="775440"/>
              <a:chOff x="5111640" y="3087720"/>
              <a:chExt cx="1206720" cy="775440"/>
            </a:xfrm>
          </p:grpSpPr>
          <p:sp>
            <p:nvSpPr>
              <p:cNvPr id="490" name=""/>
              <p:cNvSpPr/>
              <p:nvPr/>
            </p:nvSpPr>
            <p:spPr>
              <a:xfrm>
                <a:off x="5111640" y="3190680"/>
                <a:ext cx="649080" cy="347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1" name=""/>
              <p:cNvGrpSpPr/>
              <p:nvPr/>
            </p:nvGrpSpPr>
            <p:grpSpPr>
              <a:xfrm>
                <a:off x="5338800" y="3087720"/>
                <a:ext cx="194760" cy="346680"/>
                <a:chOff x="5338800" y="3087720"/>
                <a:chExt cx="194760" cy="346680"/>
              </a:xfrm>
            </p:grpSpPr>
            <p:grpSp>
              <p:nvGrpSpPr>
                <p:cNvPr id="492" name=""/>
                <p:cNvGrpSpPr/>
                <p:nvPr/>
              </p:nvGrpSpPr>
              <p:grpSpPr>
                <a:xfrm>
                  <a:off x="5338800" y="3231000"/>
                  <a:ext cx="194760" cy="203400"/>
                  <a:chOff x="5338800" y="3231000"/>
                  <a:chExt cx="194760" cy="203400"/>
                </a:xfrm>
              </p:grpSpPr>
              <p:sp>
                <p:nvSpPr>
                  <p:cNvPr id="493" name=""/>
                  <p:cNvSpPr/>
                  <p:nvPr/>
                </p:nvSpPr>
                <p:spPr>
                  <a:xfrm>
                    <a:off x="5378040" y="3231000"/>
                    <a:ext cx="115920" cy="75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5338800" y="3434400"/>
                    <a:ext cx="194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5378040" y="3282480"/>
                    <a:ext cx="115920" cy="500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5378040" y="3282480"/>
                    <a:ext cx="0" cy="151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5494320" y="3282480"/>
                    <a:ext cx="0" cy="151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8" name=""/>
                <p:cNvSpPr/>
                <p:nvPr/>
              </p:nvSpPr>
              <p:spPr>
                <a:xfrm>
                  <a:off x="5436360" y="3087720"/>
                  <a:ext cx="0" cy="102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9" name=""/>
              <p:cNvSpPr/>
              <p:nvPr/>
            </p:nvSpPr>
            <p:spPr>
              <a:xfrm>
                <a:off x="5759640" y="3342960"/>
                <a:ext cx="5587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O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0" name=""/>
            <p:cNvSpPr/>
            <p:nvPr/>
          </p:nvSpPr>
          <p:spPr>
            <a:xfrm>
              <a:off x="5111640" y="3447720"/>
              <a:ext cx="64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1776240" y="2546280"/>
            <a:ext cx="1114920" cy="574920"/>
            <a:chOff x="1776240" y="2546280"/>
            <a:chExt cx="1114920" cy="574920"/>
          </a:xfrm>
        </p:grpSpPr>
        <p:sp>
          <p:nvSpPr>
            <p:cNvPr id="502" name=""/>
            <p:cNvSpPr/>
            <p:nvPr/>
          </p:nvSpPr>
          <p:spPr>
            <a:xfrm>
              <a:off x="1776240" y="2835360"/>
              <a:ext cx="39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1776240" y="2546280"/>
              <a:ext cx="1114920" cy="574920"/>
              <a:chOff x="1776240" y="2546280"/>
              <a:chExt cx="1114920" cy="574920"/>
            </a:xfrm>
          </p:grpSpPr>
          <p:sp>
            <p:nvSpPr>
              <p:cNvPr id="504" name=""/>
              <p:cNvSpPr/>
              <p:nvPr/>
            </p:nvSpPr>
            <p:spPr>
              <a:xfrm>
                <a:off x="1776240" y="2628720"/>
                <a:ext cx="397800" cy="278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5" name=""/>
              <p:cNvGrpSpPr/>
              <p:nvPr/>
            </p:nvGrpSpPr>
            <p:grpSpPr>
              <a:xfrm>
                <a:off x="1915560" y="2546280"/>
                <a:ext cx="119160" cy="278640"/>
                <a:chOff x="1915560" y="2546280"/>
                <a:chExt cx="119160" cy="278640"/>
              </a:xfrm>
            </p:grpSpPr>
            <p:grpSp>
              <p:nvGrpSpPr>
                <p:cNvPr id="506" name=""/>
                <p:cNvGrpSpPr/>
                <p:nvPr/>
              </p:nvGrpSpPr>
              <p:grpSpPr>
                <a:xfrm>
                  <a:off x="1915560" y="2661480"/>
                  <a:ext cx="119160" cy="163440"/>
                  <a:chOff x="1915560" y="2661480"/>
                  <a:chExt cx="119160" cy="163440"/>
                </a:xfrm>
              </p:grpSpPr>
              <p:sp>
                <p:nvSpPr>
                  <p:cNvPr id="507" name=""/>
                  <p:cNvSpPr/>
                  <p:nvPr/>
                </p:nvSpPr>
                <p:spPr>
                  <a:xfrm>
                    <a:off x="1939320" y="2661480"/>
                    <a:ext cx="70920" cy="60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" bIns="-3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1915560" y="2824920"/>
                    <a:ext cx="119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1939320" y="2702520"/>
                    <a:ext cx="70920" cy="40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480" bIns="-64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1939320" y="2702520"/>
                    <a:ext cx="0" cy="122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2010600" y="2702520"/>
                    <a:ext cx="0" cy="122040"/>
                  </a:xfrm>
                  <a:prstGeom prst="line">
                    <a:avLst/>
                  </a:prstGeom>
                  <a:ln w="1260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2" name=""/>
                <p:cNvSpPr/>
                <p:nvPr/>
              </p:nvSpPr>
              <p:spPr>
                <a:xfrm>
                  <a:off x="1975320" y="2546280"/>
                  <a:ext cx="0" cy="82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"/>
              <p:cNvSpPr/>
              <p:nvPr/>
            </p:nvSpPr>
            <p:spPr>
              <a:xfrm>
                <a:off x="2176920" y="2752920"/>
                <a:ext cx="71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4" name=""/>
          <p:cNvSpPr/>
          <p:nvPr/>
        </p:nvSpPr>
        <p:spPr>
          <a:xfrm>
            <a:off x="3144600" y="44514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447960" y="399744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57200" y="63244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O C  FMI 4-90.1         Slide 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3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3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3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9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3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>
            <a:hlinkClick r:id="" action="ppaction://hlinkshowjump?jump=nextslide"/>
          </p:cNvPr>
          <p:cNvSpPr/>
          <p:nvPr/>
        </p:nvSpPr>
        <p:spPr>
          <a:xfrm>
            <a:off x="86868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57200" y="914400"/>
            <a:ext cx="8229600" cy="207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Which one of the following missions is NOT a combat role provided by EOD tea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ise commanders on hazards and prot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US and foreign unexploded ordnance (UX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 mines from mine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 UXO for technical intellig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ose of UX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" y="3048120"/>
            <a:ext cx="8229600" cy="368280"/>
          </a:xfrm>
          <a:prstGeom prst="rect">
            <a:avLst/>
          </a:prstGeom>
          <a:solidFill>
            <a:srgbClr val="d3ebed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 C.  Clear mines from minefields       ELO B   FM 4-30.5      Slide 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33520" y="3657600"/>
            <a:ext cx="8076960" cy="2288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 What are the roles of EOD in civil support operations?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US Secret Service and other federal agencies for presidential and VIP fun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coverage for cities/municipalities that do NOT have organic civilian EOD suppo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uct removal of any military munitions for civilian 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, B, and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A and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33520" y="6095880"/>
            <a:ext cx="8076960" cy="368280"/>
          </a:xfrm>
          <a:prstGeom prst="rect">
            <a:avLst/>
          </a:prstGeom>
          <a:solidFill>
            <a:srgbClr val="d3ebed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 D.   A, B, and C      ELO B   FM 4-30.5      Slide #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3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30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9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3000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3000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3000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3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3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6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3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9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30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2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30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5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3000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80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3000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10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3000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40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90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>
            <a:hlinkClick r:id="" action="ppaction://hlinkshowjump?jump=nextslide"/>
          </p:cNvPr>
          <p:cNvSpPr/>
          <p:nvPr/>
        </p:nvSpPr>
        <p:spPr>
          <a:xfrm>
            <a:off x="830592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943600" y="652140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heck your sel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28600" y="91440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.  Which of the following munitions support actions would you as the SPO plan to implement in support of offensive operations, defensive operations, or urban warfare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85800" y="1600200"/>
            <a:ext cx="563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914400" y="6324480"/>
            <a:ext cx="563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09480" y="175248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 for a high expenditure of small arms ammun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09480" y="243828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up mobile distribution points as low as company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09480" y="312408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tain separation distances between munitions and living areas (military and civilia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09480" y="41148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mines and demolitions for engine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09480" y="472428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ct decreased consumption in certain large-caliber and area type muni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5410080" y="1600200"/>
          <a:ext cx="3276720" cy="4723920"/>
        </p:xfrm>
        <a:graphic>
          <a:graphicData uri="http://schemas.openxmlformats.org/drawingml/2006/table">
            <a:tbl>
              <a:tblPr/>
              <a:tblGrid>
                <a:gridCol w="1143000"/>
                <a:gridCol w="1067040"/>
                <a:gridCol w="1066680"/>
              </a:tblGrid>
              <a:tr h="802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ban Warf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ban Warf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ban Warf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ban Warf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ban Warf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ban Warf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"/>
          <p:cNvSpPr/>
          <p:nvPr/>
        </p:nvSpPr>
        <p:spPr>
          <a:xfrm>
            <a:off x="609480" y="56833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w units to stock Class V in excess of their basic lo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1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3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40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90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40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9:29:06Z</dcterms:created>
  <dc:creator>moorem2</dc:creator>
  <dc:description/>
  <dc:language>en-US</dc:language>
  <cp:lastModifiedBy>moorem2</cp:lastModifiedBy>
  <dcterms:modified xsi:type="dcterms:W3CDTF">2006-01-25T14:47:18Z</dcterms:modified>
  <cp:revision>118</cp:revision>
  <dc:subject/>
  <dc:title>CHECKS ON LEARNING</dc:title>
</cp:coreProperties>
</file>